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6.jpeg" ContentType="image/jpeg"/>
  <Override PartName="/ppt/media/image53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55.jpeg" ContentType="image/jpeg"/>
  <Override PartName="/ppt/media/image31.png" ContentType="image/pn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0BA-EAEA-49DA-B894-091FEA0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CC7-4E32-4535-86F9-74EA66E2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52F-AC18-4B76-A1BC-414D9294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9B2-F548-4F5E-B96A-BB3161E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29F-E62D-4375-98EB-4D1F77E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CB5-BC40-4792-8902-E9B55B4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225-80E6-4F66-BAAB-8FCE419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2C7-C022-46ED-8E26-CEAF86D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E52-FA77-4FEA-87C6-1C62D40C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E26-23F6-44CF-A43D-D79578A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584-2446-4EC7-9899-B3DB8730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5E0-55B8-491B-AAAF-F4F9899B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2320" y="-1440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775200" y="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FÍSICA Y QUÍMICA 4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Fuerzas y presiones en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FF90-D1D8-4067-AA6B-3129A35F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image" Target="../media/image2.jpe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1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image" Target="../media/image3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8.jpeg"/><Relationship Id="rId13" Type="http://schemas.openxmlformats.org/officeDocument/2006/relationships/image" Target="../media/image49.jpeg"/><Relationship Id="rId14" Type="http://schemas.openxmlformats.org/officeDocument/2006/relationships/image" Target="../media/image50.jpeg"/><Relationship Id="rId15" Type="http://schemas.openxmlformats.org/officeDocument/2006/relationships/image" Target="../media/image49.jpe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hyperlink" Target="http://www.sc.ehu.es/sbweb/fisica/fluidos/estatica/arquimedes/arquimedes.htm" TargetMode="External"/><Relationship Id="rId12" Type="http://schemas.openxmlformats.org/officeDocument/2006/relationships/hyperlink" Target="http://www.sc.ehu.es/sbweb/fisica/fluidos/estatica/arquimedes/arquimedes.htm" TargetMode="External"/><Relationship Id="rId13" Type="http://schemas.openxmlformats.org/officeDocument/2006/relationships/hyperlink" Target="http://www.sc.ehu.es/sbweb/fisica/fluidos/estatica/arquimedes/arquimedes.htm" TargetMode="External"/><Relationship Id="rId14" Type="http://schemas.openxmlformats.org/officeDocument/2006/relationships/hyperlink" Target="http://www.sc.ehu.es/sbweb/fisica/fluidos/estatica/arquimedes/arquimedes.htm" TargetMode="External"/><Relationship Id="rId15" Type="http://schemas.openxmlformats.org/officeDocument/2006/relationships/oleObject" Target="../embeddings/oleObject1.bin"/><Relationship Id="rId16" Type="http://schemas.openxmlformats.org/officeDocument/2006/relationships/hyperlink" Target="http://www.sc.ehu.es/sbweb/fisica/fluidos/estatica/arquimedes/arquimedes.htm" TargetMode="External"/><Relationship Id="rId17" Type="http://schemas.openxmlformats.org/officeDocument/2006/relationships/image" Target="../media/image54.png"/><Relationship Id="rId18" Type="http://schemas.openxmlformats.org/officeDocument/2006/relationships/image" Target="../media/image55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5.xml"/><Relationship Id="rId13" Type="http://schemas.openxmlformats.org/officeDocument/2006/relationships/image" Target="../media/image3.jpeg"/><Relationship Id="rId14" Type="http://schemas.openxmlformats.org/officeDocument/2006/relationships/slide" Target="slide6.xml"/><Relationship Id="rId15" Type="http://schemas.openxmlformats.org/officeDocument/2006/relationships/image" Target="../media/image3.jpeg"/><Relationship Id="rId16" Type="http://schemas.openxmlformats.org/officeDocument/2006/relationships/slide" Target="slide7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slide" Target="slide14.xml"/><Relationship Id="rId30" Type="http://schemas.openxmlformats.org/officeDocument/2006/relationships/slide" Target="slide12.xml"/><Relationship Id="rId31" Type="http://schemas.openxmlformats.org/officeDocument/2006/relationships/slide" Target="slide13.xml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9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3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46200" y="836640"/>
            <a:ext cx="34578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y presiones en flu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3" name="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1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4" name="" descr=""/>
          <p:cNvPicPr/>
          <p:nvPr/>
        </p:nvPicPr>
        <p:blipFill>
          <a:blip r:embed="rId8"/>
          <a:srcRect l="0" t="718" r="0" b="9481"/>
          <a:stretch/>
        </p:blipFill>
        <p:spPr>
          <a:xfrm>
            <a:off x="642960" y="1876320"/>
            <a:ext cx="4022640" cy="4502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303800" y="2457360"/>
            <a:ext cx="1944720" cy="360360"/>
            <a:chOff x="4303800" y="2457360"/>
            <a:chExt cx="1944720" cy="360360"/>
          </a:xfrm>
        </p:grpSpPr>
        <p:sp>
          <p:nvSpPr>
            <p:cNvPr id="106" name="">
              <a:hlinkClick r:id="rId9" action="ppaction://hlinksldjump"/>
            </p:cNvPr>
            <p:cNvSpPr/>
            <p:nvPr/>
          </p:nvSpPr>
          <p:spPr>
            <a:xfrm>
              <a:off x="4303800" y="2457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0b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ARA EMPEZ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>
              <a:hlinkClick r:id="rId10" action="ppaction://hlinksldjump"/>
            </p:cNvPr>
            <p:cNvSpPr/>
            <p:nvPr/>
          </p:nvSpPr>
          <p:spPr>
            <a:xfrm>
              <a:off x="4375440" y="2530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>
              <a:hlinkClick r:id="rId11" action="ppaction://hlinksldjump"/>
            </p:cNvPr>
            <p:cNvSpPr/>
            <p:nvPr/>
          </p:nvSpPr>
          <p:spPr>
            <a:xfrm rot="5400000">
              <a:off x="4429080" y="2574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03800" y="2889360"/>
            <a:ext cx="1944720" cy="360360"/>
            <a:chOff x="4303800" y="2889360"/>
            <a:chExt cx="1944720" cy="360360"/>
          </a:xfrm>
        </p:grpSpPr>
        <p:sp>
          <p:nvSpPr>
            <p:cNvPr id="110" name="">
              <a:hlinkClick r:id="rId12" action="ppaction://hlinksldjump"/>
            </p:cNvPr>
            <p:cNvSpPr/>
            <p:nvPr/>
          </p:nvSpPr>
          <p:spPr>
            <a:xfrm>
              <a:off x="4303800" y="2889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9d1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>
              <a:hlinkClick r:id="rId13" action="ppaction://hlinksldjump"/>
            </p:cNvPr>
            <p:cNvSpPr/>
            <p:nvPr/>
          </p:nvSpPr>
          <p:spPr>
            <a:xfrm>
              <a:off x="4375440" y="2962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>
              <a:hlinkClick r:id="rId14" action="ppaction://hlinksldjump"/>
            </p:cNvPr>
            <p:cNvSpPr/>
            <p:nvPr/>
          </p:nvSpPr>
          <p:spPr>
            <a:xfrm rot="5400000">
              <a:off x="4429080" y="3006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3322800"/>
            <a:ext cx="1944720" cy="360360"/>
            <a:chOff x="4303800" y="3322800"/>
            <a:chExt cx="1944720" cy="360360"/>
          </a:xfrm>
        </p:grpSpPr>
        <p:sp>
          <p:nvSpPr>
            <p:cNvPr id="114" name="">
              <a:hlinkClick r:id="rId15" action="ppaction://hlinksldjump"/>
            </p:cNvPr>
            <p:cNvSpPr/>
            <p:nvPr/>
          </p:nvSpPr>
          <p:spPr>
            <a:xfrm>
              <a:off x="4303800" y="332280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73c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75440" y="339588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4429080" y="344016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47640" y="692280"/>
            <a:ext cx="1800360" cy="1189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9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94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98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0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0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0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1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16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539640" y="1592280"/>
            <a:ext cx="4500720" cy="3670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951200" y="5524560"/>
            <a:ext cx="522108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sobre un cuerpo sumergido en un fluido depende de la columna de fluido que hay sobre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2000" y="2457360"/>
            <a:ext cx="0" cy="158436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16360" y="303372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79720" y="378936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00440" y="20970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00000" y="155088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ejerce una presión debida al peso de la columna de líquido que hay sobre el pris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24360" y="2457360"/>
            <a:ext cx="39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Peso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72360" y="288936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48360" y="3392640"/>
            <a:ext cx="30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826520" y="4405320"/>
            <a:ext cx="4291920" cy="680040"/>
            <a:chOff x="4826520" y="4405320"/>
            <a:chExt cx="4291920" cy="680040"/>
          </a:xfrm>
        </p:grpSpPr>
        <p:sp>
          <p:nvSpPr>
            <p:cNvPr id="630" name=""/>
            <p:cNvSpPr/>
            <p:nvPr/>
          </p:nvSpPr>
          <p:spPr>
            <a:xfrm>
              <a:off x="5111640" y="4405320"/>
              <a:ext cx="306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0800" y="4564080"/>
              <a:ext cx="1817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4048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26520" y="45702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58520" y="44053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6392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299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821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9200" y="4765680"/>
              <a:ext cx="36036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77080" y="4762440"/>
              <a:ext cx="143964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05800" y="458460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587640" y="4441680"/>
            <a:ext cx="304920" cy="587520"/>
            <a:chOff x="6587640" y="4441680"/>
            <a:chExt cx="304920" cy="587520"/>
          </a:xfrm>
        </p:grpSpPr>
        <p:sp>
          <p:nvSpPr>
            <p:cNvPr id="642" name=""/>
            <p:cNvSpPr/>
            <p:nvPr/>
          </p:nvSpPr>
          <p:spPr>
            <a:xfrm flipH="1">
              <a:off x="6587640" y="44416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640200" y="47782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372360" y="393372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rincipio fundamental de la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6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6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11"/>
          <a:stretch/>
        </p:blipFill>
        <p:spPr>
          <a:xfrm>
            <a:off x="539640" y="1808280"/>
            <a:ext cx="3853080" cy="3130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95280" y="1287360"/>
            <a:ext cx="4176720" cy="73332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s puntos que se encuentren sumergidos en un líquido a la misma altura, estarán sometidos a la misma 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224000" y="3859200"/>
            <a:ext cx="2232000" cy="614520"/>
            <a:chOff x="1224000" y="3859200"/>
            <a:chExt cx="2232000" cy="614520"/>
          </a:xfrm>
        </p:grpSpPr>
        <p:sp>
          <p:nvSpPr>
            <p:cNvPr id="677" name=""/>
            <p:cNvSpPr/>
            <p:nvPr/>
          </p:nvSpPr>
          <p:spPr>
            <a:xfrm>
              <a:off x="2771640" y="3859200"/>
              <a:ext cx="6843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24000" y="4473720"/>
              <a:ext cx="68400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954000" y="42195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3608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292428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63720" y="31399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40000" y="2598840"/>
            <a:ext cx="1619280" cy="1836720"/>
            <a:chOff x="1440000" y="2598840"/>
            <a:chExt cx="1619280" cy="1836720"/>
          </a:xfrm>
        </p:grpSpPr>
        <p:sp>
          <p:nvSpPr>
            <p:cNvPr id="684" name=""/>
            <p:cNvSpPr/>
            <p:nvPr/>
          </p:nvSpPr>
          <p:spPr>
            <a:xfrm>
              <a:off x="3059280" y="2598840"/>
              <a:ext cx="0" cy="1225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000" y="2598840"/>
              <a:ext cx="0" cy="1836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025720" y="364320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6360" y="4903920"/>
            <a:ext cx="334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iferencia de presión entre A y B es:</a:t>
            </a:r>
            <a:br>
              <a:rPr sz="1400"/>
            </a:b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 - 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(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- 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2560" y="1714680"/>
            <a:ext cx="30243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VASOS COMUNICANTES CON LÍQUIDOS INMISC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5095800" y="2525760"/>
          <a:ext cx="3456000" cy="281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95800" y="2525760"/>
                    <a:ext cx="34560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1" name=""/>
          <p:cNvGrpSpPr/>
          <p:nvPr/>
        </p:nvGrpSpPr>
        <p:grpSpPr>
          <a:xfrm>
            <a:off x="5435640" y="2960640"/>
            <a:ext cx="2751120" cy="1008000"/>
            <a:chOff x="5435640" y="2960640"/>
            <a:chExt cx="2751120" cy="1008000"/>
          </a:xfrm>
        </p:grpSpPr>
        <p:sp>
          <p:nvSpPr>
            <p:cNvPr id="692" name=""/>
            <p:cNvSpPr/>
            <p:nvPr/>
          </p:nvSpPr>
          <p:spPr>
            <a:xfrm>
              <a:off x="5435640" y="3968640"/>
              <a:ext cx="27511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75440" y="31640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2000" y="29606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832360" y="2960640"/>
            <a:ext cx="2016360" cy="1008000"/>
            <a:chOff x="5832360" y="2960640"/>
            <a:chExt cx="2016360" cy="1008000"/>
          </a:xfrm>
        </p:grpSpPr>
        <p:sp>
          <p:nvSpPr>
            <p:cNvPr id="696" name=""/>
            <p:cNvSpPr/>
            <p:nvPr/>
          </p:nvSpPr>
          <p:spPr>
            <a:xfrm>
              <a:off x="5832360" y="2960640"/>
              <a:ext cx="0" cy="1008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48720" y="3141720"/>
              <a:ext cx="0" cy="826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621560" y="453708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7416360" y="4400280"/>
            <a:ext cx="468360" cy="252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48360" y="418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c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940360" y="3645000"/>
            <a:ext cx="432000" cy="57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40720" y="339264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6360" y="33577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67280" y="382428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01080" y="3824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61840" y="5703840"/>
            <a:ext cx="519336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000"/>
                            </p:stCondLst>
                            <p:childTnLst>
                              <p:par>
                                <p:cTn id="7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09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13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1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1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2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2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31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1"/>
          <a:stretch/>
        </p:blipFill>
        <p:spPr>
          <a:xfrm>
            <a:off x="22320" y="2009880"/>
            <a:ext cx="3132000" cy="16920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2"/>
          <a:stretch/>
        </p:blipFill>
        <p:spPr>
          <a:xfrm>
            <a:off x="310500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3"/>
          <a:stretch/>
        </p:blipFill>
        <p:spPr>
          <a:xfrm>
            <a:off x="599436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4"/>
          <a:stretch/>
        </p:blipFill>
        <p:spPr>
          <a:xfrm>
            <a:off x="6245280" y="4127400"/>
            <a:ext cx="2611440" cy="19479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5"/>
          <a:stretch/>
        </p:blipFill>
        <p:spPr>
          <a:xfrm>
            <a:off x="503280" y="4094280"/>
            <a:ext cx="2122560" cy="17827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6"/>
          <a:stretch/>
        </p:blipFill>
        <p:spPr>
          <a:xfrm>
            <a:off x="3276720" y="4113360"/>
            <a:ext cx="2522520" cy="188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3743280" y="1925640"/>
            <a:ext cx="2016000" cy="1008000"/>
            <a:chOff x="3743280" y="1925640"/>
            <a:chExt cx="2016000" cy="1008000"/>
          </a:xfrm>
        </p:grpSpPr>
        <p:sp>
          <p:nvSpPr>
            <p:cNvPr id="743" name=""/>
            <p:cNvSpPr/>
            <p:nvPr/>
          </p:nvSpPr>
          <p:spPr>
            <a:xfrm>
              <a:off x="3743280" y="1960560"/>
              <a:ext cx="576360" cy="21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887640" y="2428920"/>
              <a:ext cx="684360" cy="504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076720" y="1925640"/>
              <a:ext cx="682560" cy="287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5111280" y="2500200"/>
              <a:ext cx="505080" cy="433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696000" y="1996920"/>
            <a:ext cx="1332000" cy="1656000"/>
            <a:chOff x="6696000" y="1996920"/>
            <a:chExt cx="1332000" cy="1656000"/>
          </a:xfrm>
        </p:grpSpPr>
        <p:sp>
          <p:nvSpPr>
            <p:cNvPr id="748" name=""/>
            <p:cNvSpPr/>
            <p:nvPr/>
          </p:nvSpPr>
          <p:spPr>
            <a:xfrm>
              <a:off x="6696000" y="1996920"/>
              <a:ext cx="0" cy="165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28000" y="2033640"/>
              <a:ext cx="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43280" y="2320920"/>
            <a:ext cx="1765800" cy="1332000"/>
            <a:chOff x="6443280" y="2320920"/>
            <a:chExt cx="1765800" cy="1332000"/>
          </a:xfrm>
        </p:grpSpPr>
        <p:sp>
          <p:nvSpPr>
            <p:cNvPr id="751" name=""/>
            <p:cNvSpPr/>
            <p:nvPr/>
          </p:nvSpPr>
          <p:spPr>
            <a:xfrm flipH="1">
              <a:off x="6443280" y="3652920"/>
              <a:ext cx="97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12000" y="2320920"/>
              <a:ext cx="397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411280" y="1844640"/>
            <a:ext cx="432000" cy="612720"/>
          </a:xfrm>
          <a:prstGeom prst="upArrow">
            <a:avLst>
              <a:gd name="adj1" fmla="val 50000"/>
              <a:gd name="adj2" fmla="val 35458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38240" y="123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aire que forma la atmósfera es un gas y ejerce presión sobre cualquier cuerpo que se encuentre en é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87280" y="4616280"/>
            <a:ext cx="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60720" y="4870440"/>
            <a:ext cx="0" cy="574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126280" y="5634000"/>
            <a:ext cx="1800" cy="603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95280" y="1983960"/>
            <a:ext cx="973080" cy="863640"/>
            <a:chOff x="395280" y="1983960"/>
            <a:chExt cx="973080" cy="863640"/>
          </a:xfrm>
        </p:grpSpPr>
        <p:sp>
          <p:nvSpPr>
            <p:cNvPr id="759" name=""/>
            <p:cNvSpPr/>
            <p:nvPr/>
          </p:nvSpPr>
          <p:spPr>
            <a:xfrm flipV="1">
              <a:off x="1244520" y="1983960"/>
              <a:ext cx="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5280" y="215280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Empu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40000" y="2933640"/>
            <a:ext cx="973080" cy="539640"/>
            <a:chOff x="2340000" y="2933640"/>
            <a:chExt cx="973080" cy="539640"/>
          </a:xfrm>
        </p:grpSpPr>
        <p:sp>
          <p:nvSpPr>
            <p:cNvPr id="762" name=""/>
            <p:cNvSpPr/>
            <p:nvPr/>
          </p:nvSpPr>
          <p:spPr>
            <a:xfrm>
              <a:off x="2340000" y="2933640"/>
              <a:ext cx="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40000" y="29606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 y la al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66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70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74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76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79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81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84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88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3" name=""/>
          <p:cNvGraphicFramePr/>
          <p:nvPr/>
        </p:nvGraphicFramePr>
        <p:xfrm>
          <a:off x="395280" y="1700280"/>
          <a:ext cx="5040360" cy="411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1700280"/>
                    <a:ext cx="504036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 flipH="1">
            <a:off x="4824360" y="5589720"/>
            <a:ext cx="82728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94160" y="544824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ivel d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800360" y="1808280"/>
            <a:ext cx="2771640" cy="3284280"/>
            <a:chOff x="1800360" y="1808280"/>
            <a:chExt cx="2771640" cy="3284280"/>
          </a:xfrm>
        </p:grpSpPr>
        <p:sp>
          <p:nvSpPr>
            <p:cNvPr id="798" name=""/>
            <p:cNvSpPr/>
            <p:nvPr/>
          </p:nvSpPr>
          <p:spPr>
            <a:xfrm>
              <a:off x="2232000" y="5092560"/>
              <a:ext cx="1584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00360" y="1808280"/>
              <a:ext cx="2771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708360" y="1808280"/>
            <a:ext cx="863640" cy="3781440"/>
            <a:chOff x="3708360" y="1808280"/>
            <a:chExt cx="863640" cy="3781440"/>
          </a:xfrm>
        </p:grpSpPr>
        <p:sp>
          <p:nvSpPr>
            <p:cNvPr id="801" name=""/>
            <p:cNvSpPr/>
            <p:nvPr/>
          </p:nvSpPr>
          <p:spPr>
            <a:xfrm>
              <a:off x="3708360" y="5084640"/>
              <a:ext cx="0" cy="505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0" y="1808280"/>
              <a:ext cx="0" cy="378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166920" y="1592280"/>
            <a:ext cx="1801800" cy="3542400"/>
            <a:chOff x="3166920" y="1592280"/>
            <a:chExt cx="1801800" cy="3542400"/>
          </a:xfrm>
        </p:grpSpPr>
        <p:sp>
          <p:nvSpPr>
            <p:cNvPr id="804" name=""/>
            <p:cNvSpPr/>
            <p:nvPr/>
          </p:nvSpPr>
          <p:spPr>
            <a:xfrm>
              <a:off x="3166920" y="479736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159228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780000" y="3465360"/>
            <a:ext cx="1188720" cy="2063160"/>
            <a:chOff x="3780000" y="3465360"/>
            <a:chExt cx="1188720" cy="2063160"/>
          </a:xfrm>
        </p:grpSpPr>
        <p:sp>
          <p:nvSpPr>
            <p:cNvPr id="807" name=""/>
            <p:cNvSpPr/>
            <p:nvPr/>
          </p:nvSpPr>
          <p:spPr>
            <a:xfrm>
              <a:off x="4572000" y="346536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80000" y="515772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6135840" y="189216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35840" y="285264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39840" y="1413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a base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01760" y="23716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o alto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45240" y="3392640"/>
            <a:ext cx="360360" cy="433080"/>
          </a:xfrm>
          <a:prstGeom prst="downArrow">
            <a:avLst>
              <a:gd name="adj1" fmla="val 50000"/>
              <a:gd name="adj2" fmla="val 30045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33360" y="3860640"/>
            <a:ext cx="398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 (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645240" y="42926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9000" y="4761000"/>
            <a:ext cx="247140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ltura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500"/>
                            </p:stCondLst>
                            <p:childTnLst>
                              <p:par>
                                <p:cTn id="80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2816280" y="2152800"/>
          <a:ext cx="170964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6280" y="2152800"/>
                    <a:ext cx="170964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botella de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21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25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2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3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3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3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3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43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2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3"/>
          <a:srcRect l="11614" t="0" r="63851" b="0"/>
          <a:stretch/>
        </p:blipFill>
        <p:spPr>
          <a:xfrm>
            <a:off x="5280120" y="2149560"/>
            <a:ext cx="1476360" cy="27064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4"/>
          <a:srcRect l="10769" t="0" r="64077" b="0"/>
          <a:stretch/>
        </p:blipFill>
        <p:spPr>
          <a:xfrm>
            <a:off x="358920" y="2149560"/>
            <a:ext cx="1512720" cy="27064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5"/>
          <a:srcRect l="61959" t="0" r="15552" b="0"/>
          <a:stretch/>
        </p:blipFill>
        <p:spPr>
          <a:xfrm>
            <a:off x="7416720" y="2149560"/>
            <a:ext cx="1352520" cy="27064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6"/>
          <a:srcRect l="54855" t="0" r="10471" b="0"/>
          <a:stretch/>
        </p:blipFill>
        <p:spPr>
          <a:xfrm>
            <a:off x="2544840" y="2147760"/>
            <a:ext cx="2084400" cy="27068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952640" y="5618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en un punto de un líquido se transmite íntegramente a todos los puntos del m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58840" y="30751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de Pa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5170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apones de g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295280" y="3333600"/>
            <a:ext cx="432000" cy="21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150920" y="4557600"/>
            <a:ext cx="396720" cy="649440"/>
            <a:chOff x="1150920" y="4557600"/>
            <a:chExt cx="396720" cy="649440"/>
          </a:xfrm>
        </p:grpSpPr>
        <p:sp>
          <p:nvSpPr>
            <p:cNvPr id="857" name=""/>
            <p:cNvSpPr/>
            <p:nvPr/>
          </p:nvSpPr>
          <p:spPr>
            <a:xfrm flipV="1">
              <a:off x="1150920" y="4773600"/>
              <a:ext cx="0" cy="433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440000" y="4557600"/>
              <a:ext cx="107640" cy="649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348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11280" y="18223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987640" y="3644640"/>
            <a:ext cx="1251000" cy="1025640"/>
            <a:chOff x="2987640" y="3644640"/>
            <a:chExt cx="1251000" cy="1025640"/>
          </a:xfrm>
        </p:grpSpPr>
        <p:sp>
          <p:nvSpPr>
            <p:cNvPr id="862" name=""/>
            <p:cNvSpPr/>
            <p:nvPr/>
          </p:nvSpPr>
          <p:spPr>
            <a:xfrm flipV="1">
              <a:off x="3816360" y="3645000"/>
              <a:ext cx="395280" cy="288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1960" y="4060800"/>
              <a:ext cx="436680" cy="30240"/>
            </a:xfrm>
            <a:custGeom>
              <a:avLst/>
              <a:gdLst/>
              <a:ahLst/>
              <a:rect l="l" t="t" r="r" b="b"/>
              <a:pathLst>
                <a:path w="275" h="19">
                  <a:moveTo>
                    <a:pt x="0" y="19"/>
                  </a:moveTo>
                  <a:lnTo>
                    <a:pt x="275" y="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0680" y="4192560"/>
              <a:ext cx="347760" cy="260280"/>
            </a:xfrm>
            <a:custGeom>
              <a:avLst/>
              <a:gdLst/>
              <a:ahLst/>
              <a:rect l="l" t="t" r="r" b="b"/>
              <a:pathLst>
                <a:path w="219" h="164">
                  <a:moveTo>
                    <a:pt x="0" y="0"/>
                  </a:moveTo>
                  <a:lnTo>
                    <a:pt x="219" y="164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29160" y="4221000"/>
              <a:ext cx="1440" cy="449280"/>
            </a:xfrm>
            <a:custGeom>
              <a:avLst/>
              <a:gdLst/>
              <a:ahLst/>
              <a:rect l="l" t="t" r="r" b="b"/>
              <a:pathLst>
                <a:path w="1" h="283">
                  <a:moveTo>
                    <a:pt x="0" y="0"/>
                  </a:moveTo>
                  <a:lnTo>
                    <a:pt x="0" y="283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166920" y="4184640"/>
              <a:ext cx="325440" cy="32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987640" y="4076640"/>
              <a:ext cx="504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3131640" y="364464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7812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3320" y="1822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37880" y="1308240"/>
            <a:ext cx="268020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GUA – FLUIDO IN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828760" y="1308240"/>
            <a:ext cx="244404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IRE – FLUIDO 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4" presetSubtype="32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nsa hidráu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5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79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83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85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88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90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93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97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2" name=""/>
          <p:cNvGraphicFramePr/>
          <p:nvPr/>
        </p:nvGraphicFramePr>
        <p:xfrm>
          <a:off x="647640" y="1773360"/>
          <a:ext cx="4651560" cy="36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640" y="1773360"/>
                    <a:ext cx="46515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1109520" y="3827520"/>
            <a:ext cx="1089000" cy="931680"/>
          </a:xfrm>
          <a:custGeom>
            <a:avLst/>
            <a:gdLst/>
            <a:ahLst/>
            <a:rect l="l" t="t" r="r" b="b"/>
            <a:pathLst>
              <a:path w="686" h="587">
                <a:moveTo>
                  <a:pt x="4" y="0"/>
                </a:moveTo>
                <a:lnTo>
                  <a:pt x="0" y="587"/>
                </a:lnTo>
                <a:lnTo>
                  <a:pt x="686" y="587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2360" y="4178160"/>
            <a:ext cx="941400" cy="628920"/>
          </a:xfrm>
          <a:custGeom>
            <a:avLst/>
            <a:gdLst/>
            <a:ahLst/>
            <a:rect l="l" t="t" r="r" b="b"/>
            <a:pathLst>
              <a:path w="593" h="396">
                <a:moveTo>
                  <a:pt x="0" y="392"/>
                </a:moveTo>
                <a:lnTo>
                  <a:pt x="587" y="396"/>
                </a:lnTo>
                <a:lnTo>
                  <a:pt x="593" y="0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2351160"/>
            <a:ext cx="1865160" cy="828720"/>
            <a:chOff x="0" y="2351160"/>
            <a:chExt cx="1865160" cy="828720"/>
          </a:xfrm>
        </p:grpSpPr>
        <p:sp>
          <p:nvSpPr>
            <p:cNvPr id="907" name=""/>
            <p:cNvSpPr/>
            <p:nvPr/>
          </p:nvSpPr>
          <p:spPr>
            <a:xfrm>
              <a:off x="1152360" y="2351160"/>
              <a:ext cx="0" cy="8287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0" y="2351160"/>
              <a:ext cx="1865160" cy="496800"/>
              <a:chOff x="0" y="2351160"/>
              <a:chExt cx="1865160" cy="4968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5117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3840" y="23511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3679920" y="2890440"/>
            <a:ext cx="1865160" cy="1081080"/>
            <a:chOff x="3679920" y="2890440"/>
            <a:chExt cx="1865160" cy="1081080"/>
          </a:xfrm>
        </p:grpSpPr>
        <p:sp>
          <p:nvSpPr>
            <p:cNvPr id="912" name=""/>
            <p:cNvSpPr/>
            <p:nvPr/>
          </p:nvSpPr>
          <p:spPr>
            <a:xfrm flipV="1">
              <a:off x="4429080" y="289044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679920" y="3290760"/>
              <a:ext cx="1865160" cy="496800"/>
              <a:chOff x="3679920" y="3290760"/>
              <a:chExt cx="1865160" cy="496800"/>
            </a:xfrm>
          </p:grpSpPr>
          <p:sp>
            <p:nvSpPr>
              <p:cNvPr id="914" name=""/>
              <p:cNvSpPr/>
              <p:nvPr/>
            </p:nvSpPr>
            <p:spPr>
              <a:xfrm>
                <a:off x="3679920" y="34513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433760" y="32907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1584360" y="3214800"/>
            <a:ext cx="2124000" cy="733320"/>
            <a:chOff x="1584360" y="3214800"/>
            <a:chExt cx="2124000" cy="733320"/>
          </a:xfrm>
        </p:grpSpPr>
        <p:sp>
          <p:nvSpPr>
            <p:cNvPr id="917" name=""/>
            <p:cNvSpPr/>
            <p:nvPr/>
          </p:nvSpPr>
          <p:spPr>
            <a:xfrm>
              <a:off x="1584360" y="361188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52720" y="321480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50760" y="3511440"/>
            <a:ext cx="757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90920" y="3330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256360" y="2279520"/>
            <a:ext cx="468000" cy="613080"/>
          </a:xfrm>
          <a:prstGeom prst="upArrow">
            <a:avLst>
              <a:gd name="adj1" fmla="val 50000"/>
              <a:gd name="adj2" fmla="val 3275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08040" y="3168720"/>
            <a:ext cx="82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128000" y="37130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093720" y="1736640"/>
            <a:ext cx="1005120" cy="685080"/>
            <a:chOff x="6093720" y="1736640"/>
            <a:chExt cx="1005120" cy="685080"/>
          </a:xfrm>
        </p:grpSpPr>
        <p:grpSp>
          <p:nvGrpSpPr>
            <p:cNvPr id="925" name=""/>
            <p:cNvGrpSpPr/>
            <p:nvPr/>
          </p:nvGrpSpPr>
          <p:grpSpPr>
            <a:xfrm>
              <a:off x="6593040" y="1736640"/>
              <a:ext cx="505800" cy="685080"/>
              <a:chOff x="6593040" y="1736640"/>
              <a:chExt cx="505800" cy="685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6726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5930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466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6093720" y="1893960"/>
              <a:ext cx="646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36440" y="1736640"/>
            <a:ext cx="972000" cy="685080"/>
            <a:chOff x="7336440" y="1736640"/>
            <a:chExt cx="972000" cy="685080"/>
          </a:xfrm>
        </p:grpSpPr>
        <p:grpSp>
          <p:nvGrpSpPr>
            <p:cNvPr id="931" name=""/>
            <p:cNvGrpSpPr/>
            <p:nvPr/>
          </p:nvGrpSpPr>
          <p:grpSpPr>
            <a:xfrm>
              <a:off x="7802640" y="1736640"/>
              <a:ext cx="505800" cy="685080"/>
              <a:chOff x="7802640" y="1736640"/>
              <a:chExt cx="505800" cy="685080"/>
            </a:xfrm>
          </p:grpSpPr>
          <p:sp>
            <p:nvSpPr>
              <p:cNvPr id="932" name=""/>
              <p:cNvSpPr/>
              <p:nvPr/>
            </p:nvSpPr>
            <p:spPr>
              <a:xfrm>
                <a:off x="78822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8026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8562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7336440" y="1895400"/>
              <a:ext cx="59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28000" y="267012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7224480" y="1263600"/>
            <a:ext cx="144720" cy="22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59040 h 2268360"/>
              <a:gd name="textAreaBottom" fmla="*/ 2209320 h 22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6683400" y="4218120"/>
            <a:ext cx="1245600" cy="685080"/>
            <a:chOff x="6683400" y="4218120"/>
            <a:chExt cx="1245600" cy="685080"/>
          </a:xfrm>
        </p:grpSpPr>
        <p:grpSp>
          <p:nvGrpSpPr>
            <p:cNvPr id="939" name=""/>
            <p:cNvGrpSpPr/>
            <p:nvPr/>
          </p:nvGrpSpPr>
          <p:grpSpPr>
            <a:xfrm>
              <a:off x="7423200" y="4218120"/>
              <a:ext cx="505800" cy="685080"/>
              <a:chOff x="7423200" y="4218120"/>
              <a:chExt cx="505800" cy="685080"/>
            </a:xfrm>
          </p:grpSpPr>
          <p:sp>
            <p:nvSpPr>
              <p:cNvPr id="940" name=""/>
              <p:cNvSpPr/>
              <p:nvPr/>
            </p:nvSpPr>
            <p:spPr>
              <a:xfrm>
                <a:off x="75027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232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768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83400" y="4218120"/>
              <a:ext cx="505800" cy="685080"/>
              <a:chOff x="6683400" y="4218120"/>
              <a:chExt cx="505800" cy="685080"/>
            </a:xfrm>
          </p:grpSpPr>
          <p:sp>
            <p:nvSpPr>
              <p:cNvPr id="944" name=""/>
              <p:cNvSpPr/>
              <p:nvPr/>
            </p:nvSpPr>
            <p:spPr>
              <a:xfrm>
                <a:off x="67629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834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7370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7097040" y="4384800"/>
              <a:ext cx="41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792000" y="7221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Enlaces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84360" y="105264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6080" y="404640"/>
            <a:ext cx="817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9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70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576360" y="1773360"/>
            <a:ext cx="3240000" cy="3456000"/>
          </a:xfrm>
          <a:prstGeom prst="rect">
            <a:avLst/>
          </a:prstGeom>
          <a:solidFill>
            <a:srgbClr val="ccff66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8a2e"/>
                </a:solidFill>
                <a:latin typeface="Arial"/>
              </a:rPr>
              <a:t>Presión y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48000" y="5013360"/>
            <a:ext cx="15112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R A ESTA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519280" y="5084640"/>
            <a:ext cx="216000" cy="216000"/>
          </a:xfrm>
          <a:prstGeom prst="ellipse">
            <a:avLst/>
          </a:prstGeom>
          <a:solidFill>
            <a:srgbClr val="2e8a2e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rot="5400000">
            <a:off x="2582640" y="5130720"/>
            <a:ext cx="142920" cy="12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916520" y="1773360"/>
            <a:ext cx="3382920" cy="3600360"/>
            <a:chOff x="4916520" y="1773360"/>
            <a:chExt cx="3382920" cy="3600360"/>
          </a:xfrm>
        </p:grpSpPr>
        <p:sp>
          <p:nvSpPr>
            <p:cNvPr id="978" name="">
              <a:hlinkClick r:id="rId11"/>
            </p:cNvPr>
            <p:cNvSpPr/>
            <p:nvPr/>
          </p:nvSpPr>
          <p:spPr>
            <a:xfrm>
              <a:off x="4916520" y="1773360"/>
              <a:ext cx="3240000" cy="34560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a2e"/>
                  </a:solidFill>
                  <a:latin typeface="Arial"/>
                </a:rPr>
                <a:t>Principio de Arquíme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788160" y="5013360"/>
              <a:ext cx="1511280" cy="360360"/>
              <a:chOff x="6788160" y="5013360"/>
              <a:chExt cx="1511280" cy="360360"/>
            </a:xfrm>
          </p:grpSpPr>
          <p:sp>
            <p:nvSpPr>
              <p:cNvPr id="980" name="">
                <a:hlinkClick r:id="rId12"/>
              </p:cNvPr>
              <p:cNvSpPr/>
              <p:nvPr/>
            </p:nvSpPr>
            <p:spPr>
              <a:xfrm>
                <a:off x="6788160" y="5013360"/>
                <a:ext cx="151128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R A ESTA WE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>
                <a:hlinkClick r:id="rId13"/>
              </p:cNvPr>
              <p:cNvSpPr/>
              <p:nvPr/>
            </p:nvSpPr>
            <p:spPr>
              <a:xfrm>
                <a:off x="6859440" y="5084640"/>
                <a:ext cx="21600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>
                <a:hlinkClick r:id="rId14"/>
              </p:cNvPr>
              <p:cNvSpPr/>
              <p:nvPr/>
            </p:nvSpPr>
            <p:spPr>
              <a:xfrm rot="5400000">
                <a:off x="6913440" y="512604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83" name=""/>
          <p:cNvGraphicFramePr/>
          <p:nvPr/>
        </p:nvGraphicFramePr>
        <p:xfrm>
          <a:off x="5256360" y="2276640"/>
          <a:ext cx="3562200" cy="20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4" name="" descr="">
                    <a:hlinkClick r:id="rId16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56360" y="2276640"/>
                    <a:ext cx="3562200" cy="209376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85" name="" descr=""/>
          <p:cNvPicPr/>
          <p:nvPr/>
        </p:nvPicPr>
        <p:blipFill>
          <a:blip r:embed="rId18"/>
          <a:stretch/>
        </p:blipFill>
        <p:spPr>
          <a:xfrm>
            <a:off x="863640" y="2276640"/>
            <a:ext cx="3562200" cy="2093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920" y="676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squema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920" y="1042920"/>
            <a:ext cx="889308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160" y="1449360"/>
            <a:ext cx="31266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os fluidos y 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2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370520" y="1952640"/>
            <a:ext cx="2251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 pérdida de peso en el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16360" y="231300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134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138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42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flipV="1" rot="10800000">
            <a:off x="863280" y="1627560"/>
            <a:ext cx="505440" cy="491400"/>
          </a:xfrm>
          <a:prstGeom prst="bentConnector3">
            <a:avLst>
              <a:gd name="adj1" fmla="val -45260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381680" y="2359080"/>
            <a:ext cx="1576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La fuerza de emp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3564000" y="184464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81320" y="2752560"/>
            <a:ext cx="20080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3348000" y="2673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90320" y="3122640"/>
            <a:ext cx="9626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Flo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635040" y="21204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5040" y="251424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637920" y="2882520"/>
            <a:ext cx="74340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2303640" y="3105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503280" y="3681360"/>
            <a:ext cx="1712880" cy="1432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448400" y="657360"/>
            <a:ext cx="1552680" cy="435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4427640" y="657360"/>
            <a:ext cx="1584360" cy="1049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04320" y="2673360"/>
            <a:ext cx="2134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Fuerzas ejercidas por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79240" y="2179800"/>
            <a:ext cx="28890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s fuerzas en el interior de un flu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/>
          <p:nvPr/>
        </p:nvCxnSpPr>
        <p:spPr>
          <a:xfrm flipH="1" flipV="1" rot="10800000">
            <a:off x="4170960" y="2318400"/>
            <a:ext cx="330840" cy="494280"/>
          </a:xfrm>
          <a:prstGeom prst="bentConnector3">
            <a:avLst>
              <a:gd name="adj1" fmla="val -69172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3943440" y="32047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3941640" y="28159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4506840" y="3068640"/>
            <a:ext cx="89532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La 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4320" y="3465360"/>
            <a:ext cx="17200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La presión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940200" y="36000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500000" y="3862440"/>
            <a:ext cx="28508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Principio fundamental de la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5"/>
          <a:stretch/>
        </p:blipFill>
        <p:spPr>
          <a:xfrm>
            <a:off x="6588000" y="263700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6"/>
          <a:stretch/>
        </p:blipFill>
        <p:spPr>
          <a:xfrm>
            <a:off x="6156360" y="3429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7"/>
          <a:stretch/>
        </p:blipFill>
        <p:spPr>
          <a:xfrm>
            <a:off x="5364000" y="306864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8"/>
          <a:stretch/>
        </p:blipFill>
        <p:spPr>
          <a:xfrm>
            <a:off x="7015320" y="3605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86800" y="5737320"/>
            <a:ext cx="15598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La botella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17120" y="5737320"/>
            <a:ext cx="1558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prensa hidráu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2457360" y="451656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>
            <a:off x="2457360" y="490392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340360" y="4292640"/>
            <a:ext cx="19152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 presión en los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1480" y="4761000"/>
            <a:ext cx="17276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La presión atmosfé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39320" y="5157720"/>
            <a:ext cx="24591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La presión atmosférica y la al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2"/>
          <a:stretch/>
        </p:blipFill>
        <p:spPr>
          <a:xfrm>
            <a:off x="4427640" y="4545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3"/>
          <a:stretch/>
        </p:blipFill>
        <p:spPr>
          <a:xfrm>
            <a:off x="5076720" y="494172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868720" y="5084640"/>
            <a:ext cx="17625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El principio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80" idx="2"/>
            <a:endCxn id="171" idx="0"/>
          </p:cNvCxnSpPr>
          <p:nvPr/>
        </p:nvCxnSpPr>
        <p:spPr>
          <a:xfrm rot="5400000">
            <a:off x="6120720" y="5108400"/>
            <a:ext cx="375480" cy="883440"/>
          </a:xfrm>
          <a:prstGeom prst="bentConnector3">
            <a:avLst>
              <a:gd name="adj1" fmla="val 50000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82" name=""/>
          <p:cNvCxnSpPr>
            <a:endCxn id="172" idx="0"/>
          </p:cNvCxnSpPr>
          <p:nvPr/>
        </p:nvCxnSpPr>
        <p:spPr>
          <a:xfrm>
            <a:off x="6551280" y="5553000"/>
            <a:ext cx="1245240" cy="185040"/>
          </a:xfrm>
          <a:prstGeom prst="bentConnector2">
            <a:avLst/>
          </a:prstGeom>
          <a:ln w="9360">
            <a:solidFill>
              <a:srgbClr val="006600"/>
            </a:solidFill>
            <a:miter/>
          </a:ln>
        </p:spPr>
      </p:cxnSp>
      <p:pic>
        <p:nvPicPr>
          <p:cNvPr id="183" name="" descr=""/>
          <p:cNvPicPr/>
          <p:nvPr/>
        </p:nvPicPr>
        <p:blipFill>
          <a:blip r:embed="rId34"/>
          <a:stretch/>
        </p:blipFill>
        <p:spPr>
          <a:xfrm>
            <a:off x="4824360" y="558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5"/>
          <a:stretch/>
        </p:blipFill>
        <p:spPr>
          <a:xfrm>
            <a:off x="8496360" y="5589720"/>
            <a:ext cx="28728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113440" y="1486080"/>
            <a:ext cx="2541600" cy="2195280"/>
            <a:chOff x="5113440" y="1486080"/>
            <a:chExt cx="2541600" cy="2195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545080" y="1528920"/>
              <a:ext cx="21099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13440" y="1486080"/>
              <a:ext cx="971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ara empezar, experimenta y pi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9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9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0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06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10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14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039320" y="1268280"/>
            <a:ext cx="231444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principio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47360" y="1268280"/>
            <a:ext cx="78408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92000" y="1859040"/>
            <a:ext cx="2792520" cy="180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92000" y="4175280"/>
            <a:ext cx="2792520" cy="180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6000" y="370692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3608280"/>
            <a:ext cx="7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598500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68360" y="3176280"/>
            <a:ext cx="71640" cy="539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03040" y="1800360"/>
            <a:ext cx="34920" cy="5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1628640"/>
            <a:ext cx="140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suflamos aire por la paj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332000" y="4976640"/>
            <a:ext cx="611280" cy="1008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519264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92000" y="3105000"/>
            <a:ext cx="863640" cy="5400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3680" y="3727440"/>
            <a:ext cx="2298240" cy="2594160"/>
            <a:chOff x="5143680" y="3727440"/>
            <a:chExt cx="2298240" cy="2594160"/>
          </a:xfrm>
        </p:grpSpPr>
        <p:pic>
          <p:nvPicPr>
            <p:cNvPr id="231" name="" descr=""/>
            <p:cNvPicPr/>
            <p:nvPr/>
          </p:nvPicPr>
          <p:blipFill>
            <a:blip r:embed="rId14"/>
            <a:stretch/>
          </p:blipFill>
          <p:spPr>
            <a:xfrm>
              <a:off x="5473800" y="3727440"/>
              <a:ext cx="196812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143680" y="4112640"/>
              <a:ext cx="924120" cy="83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08720" y="303372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562608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588000" y="2241720"/>
            <a:ext cx="2376720" cy="1223640"/>
            <a:chOff x="6588000" y="2241720"/>
            <a:chExt cx="2376720" cy="1223640"/>
          </a:xfrm>
        </p:grpSpPr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7740720" y="2241720"/>
              <a:ext cx="12240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588000" y="2298600"/>
              <a:ext cx="1559160" cy="736560"/>
            </a:xfrm>
            <a:custGeom>
              <a:avLst/>
              <a:gdLst/>
              <a:ahLst/>
              <a:rect l="l" t="t" r="r" b="b"/>
              <a:pathLst>
                <a:path w="982" h="464">
                  <a:moveTo>
                    <a:pt x="0" y="464"/>
                  </a:moveTo>
                  <a:lnTo>
                    <a:pt x="98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4720" y="3392640"/>
              <a:ext cx="1719360" cy="61920"/>
            </a:xfrm>
            <a:custGeom>
              <a:avLst/>
              <a:gdLst/>
              <a:ahLst/>
              <a:rect l="l" t="t" r="r" b="b"/>
              <a:pathLst>
                <a:path w="1083" h="39">
                  <a:moveTo>
                    <a:pt x="0" y="0"/>
                  </a:moveTo>
                  <a:lnTo>
                    <a:pt x="1083" y="3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8000" y="4689360"/>
            <a:ext cx="2376720" cy="1292400"/>
            <a:chOff x="6588000" y="4689360"/>
            <a:chExt cx="2376720" cy="1292400"/>
          </a:xfrm>
        </p:grpSpPr>
        <p:pic>
          <p:nvPicPr>
            <p:cNvPr id="240" name="" descr=""/>
            <p:cNvPicPr/>
            <p:nvPr/>
          </p:nvPicPr>
          <p:blipFill>
            <a:blip r:embed="rId16"/>
            <a:stretch/>
          </p:blipFill>
          <p:spPr>
            <a:xfrm>
              <a:off x="7812000" y="4689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88000" y="4794120"/>
              <a:ext cx="1508400" cy="831960"/>
            </a:xfrm>
            <a:custGeom>
              <a:avLst/>
              <a:gdLst/>
              <a:ahLst/>
              <a:rect l="l" t="t" r="r" b="b"/>
              <a:pathLst>
                <a:path w="950" h="524">
                  <a:moveTo>
                    <a:pt x="0" y="524"/>
                  </a:moveTo>
                  <a:lnTo>
                    <a:pt x="95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8480" y="5829480"/>
              <a:ext cx="1758960" cy="152280"/>
            </a:xfrm>
            <a:custGeom>
              <a:avLst/>
              <a:gdLst/>
              <a:ahLst/>
              <a:rect l="l" t="t" r="r" b="b"/>
              <a:pathLst>
                <a:path w="1108" h="96">
                  <a:moveTo>
                    <a:pt x="0" y="96"/>
                  </a:moveTo>
                  <a:lnTo>
                    <a:pt x="11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48000" y="3645000"/>
            <a:ext cx="19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etemos el dedo en el agua sin tocar las paredes ni el fo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9760" y="4041720"/>
            <a:ext cx="1726920" cy="5202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balanza indica una masa ma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92000" y="692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érdida de peso en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503280" y="1096920"/>
            <a:ext cx="2906640" cy="4033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4346640" y="1096920"/>
            <a:ext cx="2046240" cy="4038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08360" y="5027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808360" y="4559400"/>
            <a:ext cx="28728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4811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2070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inamó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4360" y="4522320"/>
            <a:ext cx="28728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4360" y="11174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23274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ro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08000" y="2614680"/>
            <a:ext cx="250920" cy="17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2000" y="1606680"/>
            <a:ext cx="3952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087640" y="4486320"/>
            <a:ext cx="108000" cy="288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10040" y="26272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0685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0680" y="40784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97560" y="3693960"/>
            <a:ext cx="772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00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00840" y="25066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58080" y="246852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troducimos la bola hasta la mitad de la prob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94320" y="40100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34120" y="3614760"/>
            <a:ext cx="779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30680" y="4127400"/>
            <a:ext cx="0" cy="432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5621400"/>
            <a:ext cx="2953080" cy="5202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tamos la bola a la cuerda y la pesamos con el dinamóme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80000" y="4162320"/>
            <a:ext cx="248472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uánto pesa el agua que ha desplazado la bo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55040" y="3554280"/>
            <a:ext cx="14079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 agua despla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93080" y="3754440"/>
            <a:ext cx="539640" cy="1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4689360"/>
            <a:ext cx="180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Densidad del agua      d</a:t>
            </a:r>
            <a:r>
              <a:rPr b="0" lang="es-ES" sz="1400" spc="-1" strike="noStrike" baseline="-25000">
                <a:solidFill>
                  <a:srgbClr val="006600"/>
                </a:solidFill>
                <a:latin typeface="Arial"/>
              </a:rPr>
              <a:t>H2O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1kg/dm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14920" y="5326200"/>
            <a:ext cx="4321080" cy="518040"/>
            <a:chOff x="3814920" y="5326200"/>
            <a:chExt cx="4321080" cy="518040"/>
          </a:xfrm>
        </p:grpSpPr>
        <p:sp>
          <p:nvSpPr>
            <p:cNvPr id="299" name=""/>
            <p:cNvSpPr/>
            <p:nvPr/>
          </p:nvSpPr>
          <p:spPr>
            <a:xfrm>
              <a:off x="3814920" y="5326200"/>
              <a:ext cx="43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=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→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=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·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V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1 kg ·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72040" y="5537160"/>
              <a:ext cx="4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4280" y="552780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05600" y="55785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61360" y="55911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91240" y="5389560"/>
            <a:ext cx="1081080" cy="395280"/>
            <a:chOff x="5691240" y="5389560"/>
            <a:chExt cx="1081080" cy="395280"/>
          </a:xfrm>
        </p:grpSpPr>
        <p:sp>
          <p:nvSpPr>
            <p:cNvPr id="305" name=""/>
            <p:cNvSpPr/>
            <p:nvPr/>
          </p:nvSpPr>
          <p:spPr>
            <a:xfrm flipH="1">
              <a:off x="5691240" y="5568840"/>
              <a:ext cx="288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556320" y="5389560"/>
              <a:ext cx="21600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72000" y="586260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·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41·10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-3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kg ·9,8 m/s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086600" y="57452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48360" y="1125360"/>
            <a:ext cx="212400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érdida de peso de la bola en el agua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9920" y="1773360"/>
            <a:ext cx="1715400" cy="3070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2 N – 1,6 N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655640" y="1376280"/>
          <a:ext cx="3033720" cy="36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376280"/>
                    <a:ext cx="303372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498920" y="1376280"/>
          <a:ext cx="3309840" cy="36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1376280"/>
                    <a:ext cx="3309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 fuerza de emp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19" name="">
              <a:hlinkClick r:id="rId5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rId6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>
              <a:hlinkClick r:id="rId7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23" name="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>
              <a:hlinkClick r:id="rId9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>
              <a:hlinkClick r:id="rId10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2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2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3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3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3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41" name="">
              <a:hlinkClick r:id="rId1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rId1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rId13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19280" y="2000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real (en el 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04000" y="200016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aparente</a:t>
            </a:r>
            <a:br>
              <a:rPr sz="1400"/>
            </a:b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(dentro de un líqu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6976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4612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472920" y="2538360"/>
            <a:ext cx="613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27680" y="2585880"/>
            <a:ext cx="6840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4149720"/>
            <a:ext cx="0" cy="5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32360" y="3968640"/>
            <a:ext cx="0" cy="54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4400" y="472428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6920" y="455292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832360" y="2960280"/>
            <a:ext cx="0" cy="684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41160" y="3105000"/>
            <a:ext cx="78408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546732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que empuja el cuerpo hacia arriba y que contrarresta el peso del cuerpo se denomina fuerza d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4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92000" y="71424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l principio de Arquím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63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67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7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7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7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8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85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11"/>
          <a:stretch/>
        </p:blipFill>
        <p:spPr>
          <a:xfrm>
            <a:off x="2808360" y="3860640"/>
            <a:ext cx="2816280" cy="1386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2"/>
          <a:stretch/>
        </p:blipFill>
        <p:spPr>
          <a:xfrm>
            <a:off x="155520" y="387180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3"/>
          <a:stretch/>
        </p:blipFill>
        <p:spPr>
          <a:xfrm>
            <a:off x="6081840" y="4292640"/>
            <a:ext cx="2641320" cy="1330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76360" y="119700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do cuerpo sumergido en un líquido experimenta un empuje vertic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hacia arriba igual al peso del líquido desaloj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5421240"/>
            <a:ext cx="5543640" cy="555120"/>
            <a:chOff x="0" y="5421240"/>
            <a:chExt cx="5543640" cy="555120"/>
          </a:xfrm>
        </p:grpSpPr>
        <p:sp>
          <p:nvSpPr>
            <p:cNvPr id="393" name=""/>
            <p:cNvSpPr/>
            <p:nvPr/>
          </p:nvSpPr>
          <p:spPr>
            <a:xfrm>
              <a:off x="0" y="542124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oro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32000" y="5456160"/>
              <a:ext cx="241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plata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47640" y="4398840"/>
            <a:ext cx="4572000" cy="1022400"/>
            <a:chOff x="647640" y="4398840"/>
            <a:chExt cx="4572000" cy="1022400"/>
          </a:xfrm>
        </p:grpSpPr>
        <p:sp>
          <p:nvSpPr>
            <p:cNvPr id="396" name=""/>
            <p:cNvSpPr/>
            <p:nvPr/>
          </p:nvSpPr>
          <p:spPr>
            <a:xfrm flipV="1">
              <a:off x="647640" y="4471920"/>
              <a:ext cx="973080" cy="935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589640" y="4398840"/>
              <a:ext cx="630000" cy="10224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0" y="189072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rey de Siracusa entregó una pieza de oro a un orfebre para que le fabricase una cor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9280" y="2224080"/>
            <a:ext cx="3024360" cy="52020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ómo saber si la corona estaba hecha con el oro entrega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7380360" y="1808280"/>
          <a:ext cx="1514520" cy="97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1808280"/>
                    <a:ext cx="15145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012680" y="323856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ensidad del oro y la plata son distintas y, por tanto, los bloques tienen distinto volu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416360" y="2637000"/>
            <a:ext cx="576360" cy="19065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00000" y="3728880"/>
            <a:ext cx="2267280" cy="611280"/>
            <a:chOff x="1800000" y="3728880"/>
            <a:chExt cx="2267280" cy="611280"/>
          </a:xfrm>
        </p:grpSpPr>
        <p:sp>
          <p:nvSpPr>
            <p:cNvPr id="405" name=""/>
            <p:cNvSpPr/>
            <p:nvPr/>
          </p:nvSpPr>
          <p:spPr>
            <a:xfrm flipH="1">
              <a:off x="1800000" y="3728880"/>
              <a:ext cx="755640" cy="611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84720" y="3728880"/>
              <a:ext cx="682560" cy="5400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305400" y="5751360"/>
            <a:ext cx="2349720" cy="520200"/>
          </a:xfrm>
          <a:prstGeom prst="rect">
            <a:avLst/>
          </a:prstGeom>
          <a:solidFill>
            <a:srgbClr val="a9ffa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corona no estaba hecha con la pieza de 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96000" y="2997360"/>
            <a:ext cx="2268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ás agua desplazada que con el bloque de oro, pero menos que con el bloque de pl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728880"/>
            <a:ext cx="122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poc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67280" y="3692520"/>
            <a:ext cx="1297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much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2889360"/>
            <a:ext cx="313236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xperiencia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033880" y="3710160"/>
            <a:ext cx="2167200" cy="1969920"/>
            <a:chOff x="5033880" y="3710160"/>
            <a:chExt cx="2167200" cy="196992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5033880" y="3710160"/>
              <a:ext cx="207972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732720" y="4292640"/>
              <a:ext cx="46836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4149720"/>
              <a:ext cx="287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056360" y="1528920"/>
            <a:ext cx="1656000" cy="1957320"/>
            <a:chOff x="7056360" y="1528920"/>
            <a:chExt cx="1656000" cy="1957320"/>
          </a:xfrm>
        </p:grpSpPr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7056360" y="1528920"/>
              <a:ext cx="156996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424720" y="2075040"/>
              <a:ext cx="28764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792000" y="714240"/>
            <a:ext cx="51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Flotabib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23" name="">
              <a:hlinkClick r:id="rId4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>
              <a:hlinkClick r:id="rId5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>
              <a:hlinkClick r:id="rId6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27" name="">
              <a:hlinkClick r:id="rId7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>
              <a:hlinkClick r:id="rId8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>
              <a:hlinkClick r:id="rId9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3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3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3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4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45" name="">
              <a:hlinkClick r:id="rId10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>
              <a:hlinkClick r:id="rId11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>
              <a:hlinkClick r:id="rId12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" descr=""/>
          <p:cNvPicPr/>
          <p:nvPr/>
        </p:nvPicPr>
        <p:blipFill>
          <a:blip r:embed="rId13"/>
          <a:stretch/>
        </p:blipFill>
        <p:spPr>
          <a:xfrm>
            <a:off x="-28440" y="1557360"/>
            <a:ext cx="3493800" cy="3995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730120" y="33544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l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63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121600" y="1773360"/>
            <a:ext cx="1166400" cy="1718280"/>
            <a:chOff x="8121600" y="1773360"/>
            <a:chExt cx="1166400" cy="1718280"/>
          </a:xfrm>
        </p:grpSpPr>
        <p:sp>
          <p:nvSpPr>
            <p:cNvPr id="452" name=""/>
            <p:cNvSpPr/>
            <p:nvPr/>
          </p:nvSpPr>
          <p:spPr>
            <a:xfrm>
              <a:off x="8121600" y="318456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6920" y="17733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67320" y="4024440"/>
            <a:ext cx="1231920" cy="1732680"/>
            <a:chOff x="6367320" y="4024440"/>
            <a:chExt cx="1231920" cy="1732680"/>
          </a:xfrm>
        </p:grpSpPr>
        <p:sp>
          <p:nvSpPr>
            <p:cNvPr id="455" name=""/>
            <p:cNvSpPr/>
            <p:nvPr/>
          </p:nvSpPr>
          <p:spPr>
            <a:xfrm>
              <a:off x="6367320" y="54500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8160" y="40244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857760" y="351648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hu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72000" y="575136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asci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91480" y="3516480"/>
            <a:ext cx="2109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mantiene en equilib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557520" y="1528920"/>
            <a:ext cx="1800360" cy="1971360"/>
            <a:chOff x="3557520" y="1528920"/>
            <a:chExt cx="1800360" cy="1971360"/>
          </a:xfrm>
        </p:grpSpPr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3557520" y="1528920"/>
              <a:ext cx="180036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170320" y="2097000"/>
              <a:ext cx="17964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4000" y="1916280"/>
              <a:ext cx="287280" cy="54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10240" y="1801800"/>
            <a:ext cx="1266840" cy="1718280"/>
            <a:chOff x="4710240" y="1801800"/>
            <a:chExt cx="1266840" cy="1718280"/>
          </a:xfrm>
        </p:grpSpPr>
        <p:sp>
          <p:nvSpPr>
            <p:cNvPr id="465" name=""/>
            <p:cNvSpPr/>
            <p:nvPr/>
          </p:nvSpPr>
          <p:spPr>
            <a:xfrm>
              <a:off x="4710240" y="32130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96000" y="18018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003640" y="432900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57520" y="254628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489880" y="2144880"/>
            <a:ext cx="0" cy="396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9880" y="2637000"/>
            <a:ext cx="0" cy="3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04000" y="5192640"/>
            <a:ext cx="0" cy="2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6305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804000" y="4344480"/>
            <a:ext cx="0" cy="576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219640" y="217008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7280" y="5445000"/>
            <a:ext cx="338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s aerostáticos flotando en 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9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g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Fuerzas ejercidas por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81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85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8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9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9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9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9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03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1"/>
          <a:stretch/>
        </p:blipFill>
        <p:spPr>
          <a:xfrm>
            <a:off x="287280" y="3573360"/>
            <a:ext cx="3311640" cy="2260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2"/>
          <a:stretch/>
        </p:blipFill>
        <p:spPr>
          <a:xfrm>
            <a:off x="324000" y="1268280"/>
            <a:ext cx="273528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3191040" y="1695600"/>
          <a:ext cx="2761920" cy="22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91040" y="1695600"/>
                    <a:ext cx="276192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173640" y="1376280"/>
          <a:ext cx="2917800" cy="210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3640" y="1376280"/>
                    <a:ext cx="291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6172200" y="3537000"/>
          <a:ext cx="2917800" cy="224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3537000"/>
                    <a:ext cx="2917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4" name=""/>
          <p:cNvGrpSpPr/>
          <p:nvPr/>
        </p:nvGrpSpPr>
        <p:grpSpPr>
          <a:xfrm>
            <a:off x="7093080" y="1952640"/>
            <a:ext cx="826920" cy="755280"/>
            <a:chOff x="7093080" y="1952640"/>
            <a:chExt cx="826920" cy="755280"/>
          </a:xfrm>
        </p:grpSpPr>
        <p:sp>
          <p:nvSpPr>
            <p:cNvPr id="515" name=""/>
            <p:cNvSpPr/>
            <p:nvPr/>
          </p:nvSpPr>
          <p:spPr>
            <a:xfrm flipH="1">
              <a:off x="7704000" y="1952640"/>
              <a:ext cx="216000" cy="289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6000" y="2060640"/>
              <a:ext cx="180720" cy="14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093080" y="2457000"/>
              <a:ext cx="323640" cy="179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7632360" y="2457000"/>
              <a:ext cx="252360" cy="250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12000" y="4545000"/>
            <a:ext cx="1189080" cy="971280"/>
            <a:chOff x="6912000" y="4545000"/>
            <a:chExt cx="1189080" cy="971280"/>
          </a:xfrm>
        </p:grpSpPr>
        <p:sp>
          <p:nvSpPr>
            <p:cNvPr id="520" name=""/>
            <p:cNvSpPr/>
            <p:nvPr/>
          </p:nvSpPr>
          <p:spPr>
            <a:xfrm>
              <a:off x="7056360" y="465300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632720" y="4545000"/>
              <a:ext cx="287280" cy="431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667640" y="5157360"/>
              <a:ext cx="433440" cy="358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912000" y="5157720"/>
              <a:ext cx="504720" cy="324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16000" y="1341360"/>
            <a:ext cx="358560" cy="358920"/>
            <a:chOff x="216000" y="1341360"/>
            <a:chExt cx="358560" cy="358920"/>
          </a:xfrm>
        </p:grpSpPr>
        <p:sp>
          <p:nvSpPr>
            <p:cNvPr id="525" name=""/>
            <p:cNvSpPr/>
            <p:nvPr/>
          </p:nvSpPr>
          <p:spPr>
            <a:xfrm>
              <a:off x="216000" y="134136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4080" y="137016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276720" y="1376280"/>
            <a:ext cx="358560" cy="358920"/>
            <a:chOff x="3276720" y="1376280"/>
            <a:chExt cx="358560" cy="358920"/>
          </a:xfrm>
        </p:grpSpPr>
        <p:sp>
          <p:nvSpPr>
            <p:cNvPr id="528" name=""/>
            <p:cNvSpPr/>
            <p:nvPr/>
          </p:nvSpPr>
          <p:spPr>
            <a:xfrm>
              <a:off x="3276720" y="137628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04800" y="140508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5280" y="3429000"/>
            <a:ext cx="358920" cy="358920"/>
            <a:chOff x="395280" y="3429000"/>
            <a:chExt cx="358920" cy="358920"/>
          </a:xfrm>
        </p:grpSpPr>
        <p:sp>
          <p:nvSpPr>
            <p:cNvPr id="531" name=""/>
            <p:cNvSpPr/>
            <p:nvPr/>
          </p:nvSpPr>
          <p:spPr>
            <a:xfrm>
              <a:off x="395280" y="3429000"/>
              <a:ext cx="35892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720" y="34578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150920" y="1305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ubo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295280" y="1557360"/>
            <a:ext cx="43200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47640" y="1773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apa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584000" y="2060640"/>
            <a:ext cx="358920" cy="612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35280" y="1262160"/>
            <a:ext cx="16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introduce en un recipiente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248000" y="2641680"/>
            <a:ext cx="687600" cy="1320840"/>
            <a:chOff x="4248000" y="2641680"/>
            <a:chExt cx="687600" cy="1320840"/>
          </a:xfrm>
        </p:grpSpPr>
        <p:sp>
          <p:nvSpPr>
            <p:cNvPr id="539" name=""/>
            <p:cNvSpPr/>
            <p:nvPr/>
          </p:nvSpPr>
          <p:spPr>
            <a:xfrm>
              <a:off x="4248000" y="3003480"/>
              <a:ext cx="158760" cy="2588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100" y="16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719600" y="2641680"/>
              <a:ext cx="216000" cy="50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97560" y="3351240"/>
              <a:ext cx="0" cy="611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124000" y="4076640"/>
            <a:ext cx="57636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08000" y="4113360"/>
            <a:ext cx="576360" cy="28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97160" y="4862520"/>
            <a:ext cx="2952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separa cuando el nivel de agua del interior del tubo coincide con el del recip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3640" y="5726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 cuerpo sumergido en un fluido está sometido a una fuerza que actúa en cualquier dirección perpendicular a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27280" y="3970440"/>
            <a:ext cx="2160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queda pegada en cualquier 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9880" y="5726160"/>
            <a:ext cx="288000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aumenta cuanto mayor es la profund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570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74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5532480" y="3933720"/>
            <a:ext cx="3398760" cy="2014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2"/>
          <a:stretch/>
        </p:blipFill>
        <p:spPr>
          <a:xfrm>
            <a:off x="5172120" y="1571760"/>
            <a:ext cx="2352600" cy="17715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3"/>
          <a:stretch/>
        </p:blipFill>
        <p:spPr>
          <a:xfrm>
            <a:off x="7416720" y="1571760"/>
            <a:ext cx="1365480" cy="19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0" name=""/>
          <p:cNvGraphicFramePr/>
          <p:nvPr/>
        </p:nvGraphicFramePr>
        <p:xfrm>
          <a:off x="2500200" y="1536840"/>
          <a:ext cx="2629080" cy="189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0200" y="1536840"/>
                    <a:ext cx="2629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3080" y="1644480"/>
          <a:ext cx="2619360" cy="1892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80" y="1644480"/>
                    <a:ext cx="26193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00000" y="1233360"/>
            <a:ext cx="781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n cada caso se ejerce la misma fuerza sobre el mismo objeto en dos situaciones difer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98640" y="3429000"/>
            <a:ext cx="349092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Por qué el resultado es tan distint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8520" y="411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anto menor es la superficie sobre la que actúa una fuerza, mayor es su efecto. Este efecto se denomin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ió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56000" y="5746680"/>
            <a:ext cx="4680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resión que soporta cada punto del cuerpo del faquir es menor cuanto mayor sea el número de cla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3640" y="4797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 = F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34920" y="5229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1 Pa = 1 N / 1 m</a:t>
            </a:r>
            <a:r>
              <a:rPr b="0" lang="es-ES" sz="16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1:11:14Z</dcterms:created>
  <dc:creator>Antonio Brandi</dc:creator>
  <dc:description/>
  <dc:language>en-US</dc:language>
  <cp:lastModifiedBy>perfil</cp:lastModifiedBy>
  <dcterms:modified xsi:type="dcterms:W3CDTF">2008-04-30T11:10:42Z</dcterms:modified>
  <cp:revision>409</cp:revision>
  <dc:subject/>
  <dc:title>Diapositiva 1</dc:title>
</cp:coreProperties>
</file>