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1.jpeg" ContentType="image/jpeg"/>
  <Override PartName="/ppt/media/image47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5.jpeg" ContentType="image/jpeg"/>
  <Override PartName="/ppt/media/image34.jpeg" ContentType="image/jpeg"/>
  <Override PartName="/ppt/media/image28.jpeg" ContentType="image/jpeg"/>
  <Override PartName="/ppt/media/image36.png" ContentType="image/png"/>
  <Override PartName="/ppt/media/image39.png" ContentType="image/png"/>
  <Override PartName="/ppt/media/image42.jpeg" ContentType="image/jpeg"/>
  <Override PartName="/ppt/media/image51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35.png" ContentType="image/png"/>
  <Override PartName="/ppt/media/image45.jpeg" ContentType="image/jpeg"/>
  <Override PartName="/ppt/media/image46.jpeg" ContentType="image/jpeg"/>
  <Override PartName="/ppt/media/image53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55.jpeg" ContentType="image/jpeg"/>
  <Override PartName="/ppt/media/image31.png" ContentType="image/png"/>
  <Override PartName="/ppt/media/image12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C3D1-3D85-48C3-A6E0-76A3B497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3C46-4960-49D5-B066-FB61812E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5050-F6DC-4243-A2ED-8FC9329F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1608-976D-4D44-995D-A1380780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AC5C-4876-4FCB-A08F-F68228D1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AA5D-8512-458F-B82A-014BBBAB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850-36A5-4AD7-B9ED-4B7FB55C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D9D1-1E19-4700-B072-350A6368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BB0C-A1DD-4EE1-A843-F3548C87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A31D-69D2-477B-AE52-0C01EA75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F86A-4739-4AA1-82AC-1F8EFB87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5A8A-95D3-4172-A667-9988ABB9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22320" y="-14400"/>
            <a:ext cx="91663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775200" y="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eae4b1"/>
                </a:solidFill>
                <a:latin typeface="Arial"/>
              </a:rPr>
              <a:t>FÍSICA Y QUÍMICA 4.º ESO</a:t>
            </a:r>
            <a:br>
              <a:rPr sz="1200"/>
            </a:br>
            <a:r>
              <a:rPr b="0" lang="es-ES_tradnl" sz="1200" spc="-1" strike="noStrike">
                <a:solidFill>
                  <a:srgbClr val="eae4b1"/>
                </a:solidFill>
                <a:latin typeface="Arial"/>
              </a:rPr>
              <a:t>Fuerzas y presiones en flu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71C5-DFF5-44EA-926A-30F5AE69D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image" Target="../media/image2.jpeg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16.xml"/><Relationship Id="rId1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image" Target="../media/image37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image" Target="../media/image8.jpeg"/><Relationship Id="rId11" Type="http://schemas.openxmlformats.org/officeDocument/2006/relationships/image" Target="../media/image38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3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image" Target="../media/image40.png"/><Relationship Id="rId11" Type="http://schemas.openxmlformats.org/officeDocument/2006/relationships/image" Target="../media/image41.jpeg"/><Relationship Id="rId12" Type="http://schemas.openxmlformats.org/officeDocument/2006/relationships/image" Target="../media/image42.jpeg"/><Relationship Id="rId13" Type="http://schemas.openxmlformats.org/officeDocument/2006/relationships/image" Target="../media/image43.jpeg"/><Relationship Id="rId14" Type="http://schemas.openxmlformats.org/officeDocument/2006/relationships/image" Target="../media/image44.jpeg"/><Relationship Id="rId15" Type="http://schemas.openxmlformats.org/officeDocument/2006/relationships/image" Target="../media/image45.jpeg"/><Relationship Id="rId16" Type="http://schemas.openxmlformats.org/officeDocument/2006/relationships/image" Target="../media/image46.jpe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image" Target="../media/image8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47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image" Target="../media/image8.jpeg"/><Relationship Id="rId13" Type="http://schemas.openxmlformats.org/officeDocument/2006/relationships/image" Target="../media/image49.jpeg"/><Relationship Id="rId14" Type="http://schemas.openxmlformats.org/officeDocument/2006/relationships/image" Target="../media/image50.jpeg"/><Relationship Id="rId15" Type="http://schemas.openxmlformats.org/officeDocument/2006/relationships/image" Target="../media/image49.jpeg"/><Relationship Id="rId16" Type="http://schemas.openxmlformats.org/officeDocument/2006/relationships/image" Target="../media/image51.pn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image" Target="../media/image8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hyperlink" Target="http://www.sc.ehu.es/sbweb/fisica/fluidos/estatica/arquimedes/arquimedes.htm" TargetMode="External"/><Relationship Id="rId12" Type="http://schemas.openxmlformats.org/officeDocument/2006/relationships/hyperlink" Target="http://www.sc.ehu.es/sbweb/fisica/fluidos/estatica/arquimedes/arquimedes.htm" TargetMode="External"/><Relationship Id="rId13" Type="http://schemas.openxmlformats.org/officeDocument/2006/relationships/hyperlink" Target="http://www.sc.ehu.es/sbweb/fisica/fluidos/estatica/arquimedes/arquimedes.htm" TargetMode="External"/><Relationship Id="rId14" Type="http://schemas.openxmlformats.org/officeDocument/2006/relationships/hyperlink" Target="http://www.sc.ehu.es/sbweb/fisica/fluidos/estatica/arquimedes/arquimedes.htm" TargetMode="External"/><Relationship Id="rId15" Type="http://schemas.openxmlformats.org/officeDocument/2006/relationships/oleObject" Target="../embeddings/oleObject1.bin"/><Relationship Id="rId16" Type="http://schemas.openxmlformats.org/officeDocument/2006/relationships/hyperlink" Target="http://www.sc.ehu.es/sbweb/fisica/fluidos/estatica/arquimedes/arquimedes.htm" TargetMode="External"/><Relationship Id="rId17" Type="http://schemas.openxmlformats.org/officeDocument/2006/relationships/image" Target="../media/image54.png"/><Relationship Id="rId18" Type="http://schemas.openxmlformats.org/officeDocument/2006/relationships/image" Target="../media/image55.jpe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slide" Target="slide5.xml"/><Relationship Id="rId13" Type="http://schemas.openxmlformats.org/officeDocument/2006/relationships/image" Target="../media/image3.jpeg"/><Relationship Id="rId14" Type="http://schemas.openxmlformats.org/officeDocument/2006/relationships/slide" Target="slide6.xml"/><Relationship Id="rId15" Type="http://schemas.openxmlformats.org/officeDocument/2006/relationships/image" Target="../media/image3.jpeg"/><Relationship Id="rId16" Type="http://schemas.openxmlformats.org/officeDocument/2006/relationships/slide" Target="slide7.xml"/><Relationship Id="rId17" Type="http://schemas.openxmlformats.org/officeDocument/2006/relationships/image" Target="../media/image3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6.jpeg"/><Relationship Id="rId21" Type="http://schemas.openxmlformats.org/officeDocument/2006/relationships/slide" Target="slide8.xml"/><Relationship Id="rId22" Type="http://schemas.openxmlformats.org/officeDocument/2006/relationships/slide" Target="slide9.xml"/><Relationship Id="rId23" Type="http://schemas.openxmlformats.org/officeDocument/2006/relationships/slide" Target="slide10.xml"/><Relationship Id="rId24" Type="http://schemas.openxmlformats.org/officeDocument/2006/relationships/slide" Target="slide11.xml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slide" Target="slide14.xml"/><Relationship Id="rId30" Type="http://schemas.openxmlformats.org/officeDocument/2006/relationships/slide" Target="slide12.xml"/><Relationship Id="rId31" Type="http://schemas.openxmlformats.org/officeDocument/2006/relationships/slide" Target="slide13.xml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11.jpeg"/><Relationship Id="rId15" Type="http://schemas.openxmlformats.org/officeDocument/2006/relationships/image" Target="../media/image12.jpeg"/><Relationship Id="rId16" Type="http://schemas.openxmlformats.org/officeDocument/2006/relationships/image" Target="../media/image13.jpeg"/><Relationship Id="rId1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1.xml"/><Relationship Id="rId12" Type="http://schemas.openxmlformats.org/officeDocument/2006/relationships/slide" Target="slide1.xml"/><Relationship Id="rId13" Type="http://schemas.openxmlformats.org/officeDocument/2006/relationships/slide" Target="slide1.xml"/><Relationship Id="rId14" Type="http://schemas.openxmlformats.org/officeDocument/2006/relationships/image" Target="../media/image8.jpeg"/><Relationship Id="rId1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22.png"/><Relationship Id="rId1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slide" Target="slide1.xml"/><Relationship Id="rId13" Type="http://schemas.openxmlformats.org/officeDocument/2006/relationships/image" Target="../media/image25.jpeg"/><Relationship Id="rId14" Type="http://schemas.openxmlformats.org/officeDocument/2006/relationships/image" Target="../media/image26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image" Target="../media/image27.jpeg"/><Relationship Id="rId12" Type="http://schemas.openxmlformats.org/officeDocument/2006/relationships/image" Target="../media/image28.jpeg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29.png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30.png"/><Relationship Id="rId17" Type="http://schemas.openxmlformats.org/officeDocument/2006/relationships/oleObject" Target="../embeddings/oleObject3.bin"/><Relationship Id="rId18" Type="http://schemas.openxmlformats.org/officeDocument/2006/relationships/image" Target="../media/image31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35.png"/><Relationship Id="rId16" Type="http://schemas.openxmlformats.org/officeDocument/2006/relationships/oleObject" Target="../embeddings/oleObject2.bin"/><Relationship Id="rId17" Type="http://schemas.openxmlformats.org/officeDocument/2006/relationships/image" Target="../media/image36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446200" y="836640"/>
            <a:ext cx="345780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rzas y presiones en fluid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83" name="">
              <a:hlinkClick r:id="rId1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87" name="">
              <a:hlinkClick r:id="rId2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>
              <a:hlinkClick r:id="rId3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>
              <a:hlinkClick r:id="rId4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91" name="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>
              <a:hlinkClick r:id="rId6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>
              <a:hlinkClick r:id="rId7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95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97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100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102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4" name="" descr=""/>
          <p:cNvPicPr/>
          <p:nvPr/>
        </p:nvPicPr>
        <p:blipFill>
          <a:blip r:embed="rId8"/>
          <a:srcRect l="0" t="718" r="0" b="9481"/>
          <a:stretch/>
        </p:blipFill>
        <p:spPr>
          <a:xfrm>
            <a:off x="642960" y="1876320"/>
            <a:ext cx="4022640" cy="450216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4303800" y="2457360"/>
            <a:ext cx="1944720" cy="360360"/>
            <a:chOff x="4303800" y="2457360"/>
            <a:chExt cx="1944720" cy="360360"/>
          </a:xfrm>
        </p:grpSpPr>
        <p:sp>
          <p:nvSpPr>
            <p:cNvPr id="106" name="">
              <a:hlinkClick r:id="rId9" action="ppaction://hlinksldjump"/>
            </p:cNvPr>
            <p:cNvSpPr/>
            <p:nvPr/>
          </p:nvSpPr>
          <p:spPr>
            <a:xfrm>
              <a:off x="4303800" y="2457360"/>
              <a:ext cx="194472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0b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PARA EMPEZ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>
              <a:hlinkClick r:id="rId10" action="ppaction://hlinksldjump"/>
            </p:cNvPr>
            <p:cNvSpPr/>
            <p:nvPr/>
          </p:nvSpPr>
          <p:spPr>
            <a:xfrm>
              <a:off x="4375440" y="2530440"/>
              <a:ext cx="21564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>
              <a:hlinkClick r:id="rId11" action="ppaction://hlinksldjump"/>
            </p:cNvPr>
            <p:cNvSpPr/>
            <p:nvPr/>
          </p:nvSpPr>
          <p:spPr>
            <a:xfrm rot="5400000">
              <a:off x="4429080" y="257472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303800" y="2889360"/>
            <a:ext cx="1944720" cy="360360"/>
            <a:chOff x="4303800" y="2889360"/>
            <a:chExt cx="1944720" cy="360360"/>
          </a:xfrm>
        </p:grpSpPr>
        <p:sp>
          <p:nvSpPr>
            <p:cNvPr id="110" name="">
              <a:hlinkClick r:id="rId12" action="ppaction://hlinksldjump"/>
            </p:cNvPr>
            <p:cNvSpPr/>
            <p:nvPr/>
          </p:nvSpPr>
          <p:spPr>
            <a:xfrm>
              <a:off x="4303800" y="2889360"/>
              <a:ext cx="194472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b9d1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>
              <a:hlinkClick r:id="rId13" action="ppaction://hlinksldjump"/>
            </p:cNvPr>
            <p:cNvSpPr/>
            <p:nvPr/>
          </p:nvSpPr>
          <p:spPr>
            <a:xfrm>
              <a:off x="4375440" y="2962440"/>
              <a:ext cx="21564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>
              <a:hlinkClick r:id="rId14" action="ppaction://hlinksldjump"/>
            </p:cNvPr>
            <p:cNvSpPr/>
            <p:nvPr/>
          </p:nvSpPr>
          <p:spPr>
            <a:xfrm rot="5400000">
              <a:off x="4429080" y="300672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03800" y="3322800"/>
            <a:ext cx="1944720" cy="360360"/>
            <a:chOff x="4303800" y="3322800"/>
            <a:chExt cx="1944720" cy="360360"/>
          </a:xfrm>
        </p:grpSpPr>
        <p:sp>
          <p:nvSpPr>
            <p:cNvPr id="114" name="">
              <a:hlinkClick r:id="rId15" action="ppaction://hlinksldjump"/>
            </p:cNvPr>
            <p:cNvSpPr/>
            <p:nvPr/>
          </p:nvSpPr>
          <p:spPr>
            <a:xfrm>
              <a:off x="4303800" y="3322800"/>
              <a:ext cx="194472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73c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75440" y="3395880"/>
              <a:ext cx="21564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4429080" y="344016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47640" y="692280"/>
            <a:ext cx="1800360" cy="118908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presión hidrost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grpSp>
        <p:nvGrpSpPr>
          <p:cNvPr id="593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594" name="">
              <a:hlinkClick r:id="rId2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>
              <a:hlinkClick r:id="rId3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>
              <a:hlinkClick r:id="rId4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598" name="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>
              <a:hlinkClick r:id="rId6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>
              <a:hlinkClick r:id="rId7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602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604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607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609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1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612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616" name="">
              <a:hlinkClick r:id="rId8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>
              <a:hlinkClick r:id="rId9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>
              <a:hlinkClick r:id="rId10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9" name="" descr=""/>
          <p:cNvPicPr/>
          <p:nvPr/>
        </p:nvPicPr>
        <p:blipFill>
          <a:blip r:embed="rId11"/>
          <a:stretch/>
        </p:blipFill>
        <p:spPr>
          <a:xfrm>
            <a:off x="539640" y="1592280"/>
            <a:ext cx="4500720" cy="367020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1951200" y="5524560"/>
            <a:ext cx="522108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 presión ejercida sobre un cuerpo sumergido en un fluido depende de la columna de fluido que hay sobre el cuer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132000" y="2457360"/>
            <a:ext cx="0" cy="1584360"/>
          </a:xfrm>
          <a:prstGeom prst="line">
            <a:avLst/>
          </a:prstGeom>
          <a:ln w="2844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916360" y="3033720"/>
            <a:ext cx="6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079720" y="3789360"/>
            <a:ext cx="6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800440" y="2097000"/>
            <a:ext cx="0" cy="16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00000" y="1550880"/>
            <a:ext cx="378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Se ejerce una presión debida al peso de la columna de líquido que hay sobre el pris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824360" y="2457360"/>
            <a:ext cx="3995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Peso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líquido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líquido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líquido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V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líquido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372360" y="2889360"/>
            <a:ext cx="323640" cy="395280"/>
          </a:xfrm>
          <a:prstGeom prst="downArrow">
            <a:avLst>
              <a:gd name="adj1" fmla="val 50000"/>
              <a:gd name="adj2" fmla="val 30534"/>
            </a:avLst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148360" y="3392640"/>
            <a:ext cx="306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líquido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4826520" y="4405320"/>
            <a:ext cx="4291920" cy="680040"/>
            <a:chOff x="4826520" y="4405320"/>
            <a:chExt cx="4291920" cy="680040"/>
          </a:xfrm>
        </p:grpSpPr>
        <p:sp>
          <p:nvSpPr>
            <p:cNvPr id="630" name=""/>
            <p:cNvSpPr/>
            <p:nvPr/>
          </p:nvSpPr>
          <p:spPr>
            <a:xfrm>
              <a:off x="5111640" y="4405320"/>
              <a:ext cx="306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d</a:t>
              </a:r>
              <a:r>
                <a:rPr b="0" lang="es-ES" sz="1600" spc="-1" strike="noStrike" baseline="-25000">
                  <a:solidFill>
                    <a:srgbClr val="006600"/>
                  </a:solidFill>
                  <a:latin typeface="Arial"/>
                </a:rPr>
                <a:t>líquido</a:t>
              </a: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· </a:t>
              </a: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S</a:t>
              </a: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 · </a:t>
              </a: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h</a:t>
              </a: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 · </a:t>
              </a: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00800" y="4564080"/>
              <a:ext cx="1817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d</a:t>
              </a:r>
              <a:r>
                <a:rPr b="0" lang="es-ES" sz="1600" spc="-1" strike="noStrike" baseline="-25000">
                  <a:solidFill>
                    <a:srgbClr val="006600"/>
                  </a:solidFill>
                  <a:latin typeface="Arial"/>
                </a:rPr>
                <a:t>líquido</a:t>
              </a: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·  </a:t>
              </a: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h</a:t>
              </a: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 · </a:t>
              </a: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40480" y="4748040"/>
              <a:ext cx="37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66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26520" y="457020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258520" y="440532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66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263920" y="4748040"/>
              <a:ext cx="37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66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29960" y="4583160"/>
              <a:ext cx="35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82160" y="4583160"/>
              <a:ext cx="35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99200" y="4765680"/>
              <a:ext cx="360360" cy="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977080" y="4762440"/>
              <a:ext cx="1439640" cy="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005800" y="4584600"/>
              <a:ext cx="35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6587640" y="4441680"/>
            <a:ext cx="304920" cy="587520"/>
            <a:chOff x="6587640" y="4441680"/>
            <a:chExt cx="304920" cy="587520"/>
          </a:xfrm>
        </p:grpSpPr>
        <p:sp>
          <p:nvSpPr>
            <p:cNvPr id="642" name=""/>
            <p:cNvSpPr/>
            <p:nvPr/>
          </p:nvSpPr>
          <p:spPr>
            <a:xfrm flipH="1">
              <a:off x="6587640" y="4441680"/>
              <a:ext cx="252360" cy="250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6640200" y="4778280"/>
              <a:ext cx="252360" cy="250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6372360" y="3933720"/>
            <a:ext cx="323640" cy="395280"/>
          </a:xfrm>
          <a:prstGeom prst="downArrow">
            <a:avLst>
              <a:gd name="adj1" fmla="val 50000"/>
              <a:gd name="adj2" fmla="val 30534"/>
            </a:avLst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5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5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30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Principio fundamental de la hidrost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647" name="">
              <a:hlinkClick r:id="rId1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>
              <a:hlinkClick r:id="rId2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>
              <a:hlinkClick r:id="rId3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651" name="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>
              <a:hlinkClick r:id="rId5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>
              <a:hlinkClick r:id="rId6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655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657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9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660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662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4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665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669" name="">
              <a:hlinkClick r:id="rId7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>
              <a:hlinkClick r:id="rId8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>
              <a:hlinkClick r:id="rId9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0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11"/>
          <a:stretch/>
        </p:blipFill>
        <p:spPr>
          <a:xfrm>
            <a:off x="539640" y="1808280"/>
            <a:ext cx="3853080" cy="313056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395280" y="1287360"/>
            <a:ext cx="4176720" cy="73332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s puntos que se encuentren sumergidos en un líquido a la misma altura, estarán sometidos a la misma pres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1224000" y="3859200"/>
            <a:ext cx="2232000" cy="614520"/>
            <a:chOff x="1224000" y="3859200"/>
            <a:chExt cx="2232000" cy="614520"/>
          </a:xfrm>
        </p:grpSpPr>
        <p:sp>
          <p:nvSpPr>
            <p:cNvPr id="677" name=""/>
            <p:cNvSpPr/>
            <p:nvPr/>
          </p:nvSpPr>
          <p:spPr>
            <a:xfrm>
              <a:off x="2771640" y="3859200"/>
              <a:ext cx="684360" cy="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224000" y="4473720"/>
              <a:ext cx="684000" cy="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954000" y="4219560"/>
            <a:ext cx="6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916360" y="3608280"/>
            <a:ext cx="6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916360" y="2924280"/>
            <a:ext cx="684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1" lang="en-US" sz="14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963720" y="3139920"/>
            <a:ext cx="684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1" lang="en-US" sz="1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440000" y="2598840"/>
            <a:ext cx="1619280" cy="1836720"/>
            <a:chOff x="1440000" y="2598840"/>
            <a:chExt cx="1619280" cy="1836720"/>
          </a:xfrm>
        </p:grpSpPr>
        <p:sp>
          <p:nvSpPr>
            <p:cNvPr id="684" name=""/>
            <p:cNvSpPr/>
            <p:nvPr/>
          </p:nvSpPr>
          <p:spPr>
            <a:xfrm>
              <a:off x="3059280" y="2598840"/>
              <a:ext cx="0" cy="12254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440000" y="2598840"/>
              <a:ext cx="0" cy="183672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2025720" y="3643200"/>
            <a:ext cx="6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76360" y="4903920"/>
            <a:ext cx="334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diferencia de presión entre A y B es:</a:t>
            </a:r>
            <a:br>
              <a:rPr sz="1400"/>
            </a:br>
            <a:r>
              <a:rPr b="0" i="1" lang="en-US" sz="14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i="1" lang="en-US" sz="1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i="1" lang="en-US" sz="1400" spc="-1" strike="noStrike">
                <a:solidFill>
                  <a:srgbClr val="006600"/>
                </a:solidFill>
                <a:latin typeface="Arial"/>
              </a:rPr>
              <a:t> - p</a:t>
            </a:r>
            <a:r>
              <a:rPr b="0" i="1" lang="en-US" sz="14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Arial"/>
              </a:rPr>
              <a:t>líquido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 · </a:t>
            </a:r>
            <a:r>
              <a:rPr b="0" i="1" lang="en-US" sz="1400" spc="-1" strike="noStrike">
                <a:solidFill>
                  <a:srgbClr val="0066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 · (</a:t>
            </a:r>
            <a:r>
              <a:rPr b="0" i="1" lang="en-US" sz="14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i="1" lang="en-US" sz="14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6600"/>
                </a:solidFill>
                <a:latin typeface="Arial"/>
              </a:rPr>
              <a:t>- h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362560" y="1714680"/>
            <a:ext cx="302436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VASOS COMUNICANTES CON LÍQUIDOS INMISCI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5095800" y="2525760"/>
          <a:ext cx="3456000" cy="2817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95800" y="2525760"/>
                    <a:ext cx="3456000" cy="28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1" name=""/>
          <p:cNvGrpSpPr/>
          <p:nvPr/>
        </p:nvGrpSpPr>
        <p:grpSpPr>
          <a:xfrm>
            <a:off x="5435640" y="2960640"/>
            <a:ext cx="2751120" cy="1008000"/>
            <a:chOff x="5435640" y="2960640"/>
            <a:chExt cx="2751120" cy="1008000"/>
          </a:xfrm>
        </p:grpSpPr>
        <p:sp>
          <p:nvSpPr>
            <p:cNvPr id="692" name=""/>
            <p:cNvSpPr/>
            <p:nvPr/>
          </p:nvSpPr>
          <p:spPr>
            <a:xfrm>
              <a:off x="5435640" y="3968640"/>
              <a:ext cx="275112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75440" y="3164040"/>
              <a:ext cx="107964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72000" y="2960640"/>
              <a:ext cx="107964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5832360" y="2960640"/>
            <a:ext cx="2016360" cy="1008000"/>
            <a:chOff x="5832360" y="2960640"/>
            <a:chExt cx="2016360" cy="1008000"/>
          </a:xfrm>
        </p:grpSpPr>
        <p:sp>
          <p:nvSpPr>
            <p:cNvPr id="696" name=""/>
            <p:cNvSpPr/>
            <p:nvPr/>
          </p:nvSpPr>
          <p:spPr>
            <a:xfrm>
              <a:off x="5832360" y="2960640"/>
              <a:ext cx="0" cy="10080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848720" y="3141720"/>
              <a:ext cx="0" cy="82692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7621560" y="453708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Ag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H="1" flipV="1">
            <a:off x="7416360" y="4400280"/>
            <a:ext cx="468360" cy="25236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148360" y="418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Ace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940360" y="3645000"/>
            <a:ext cx="432000" cy="5760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740720" y="3392640"/>
            <a:ext cx="684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1" lang="es-ES" sz="14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256360" y="3357720"/>
            <a:ext cx="684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1" lang="es-ES" sz="14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967280" y="3824280"/>
            <a:ext cx="6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8101080" y="3824280"/>
            <a:ext cx="6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561840" y="5703840"/>
            <a:ext cx="5193360" cy="3708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→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ceite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gu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→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ceite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gu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1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47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50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5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59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6500"/>
                            </p:stCondLst>
                            <p:childTnLst>
                              <p:par>
                                <p:cTn id="66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0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5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4500"/>
                            </p:stCondLst>
                            <p:childTnLst>
                              <p:par>
                                <p:cTn id="6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6000"/>
                            </p:stCondLst>
                            <p:childTnLst>
                              <p:par>
                                <p:cTn id="69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96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80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8000"/>
                            </p:stCondLst>
                            <p:childTnLst>
                              <p:par>
                                <p:cTn id="70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05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71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presión atmosf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709" name="">
              <a:hlinkClick r:id="rId1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>
              <a:hlinkClick r:id="rId2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>
              <a:hlinkClick r:id="rId3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713" name="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>
              <a:hlinkClick r:id="rId5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>
              <a:hlinkClick r:id="rId6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717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719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1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722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724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6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727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731" name="">
              <a:hlinkClick r:id="rId7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>
              <a:hlinkClick r:id="rId8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>
              <a:hlinkClick r:id="rId9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0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11"/>
          <a:stretch/>
        </p:blipFill>
        <p:spPr>
          <a:xfrm>
            <a:off x="22320" y="2009880"/>
            <a:ext cx="3132000" cy="169200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12"/>
          <a:stretch/>
        </p:blipFill>
        <p:spPr>
          <a:xfrm>
            <a:off x="3105000" y="2009880"/>
            <a:ext cx="3130560" cy="169056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13"/>
          <a:stretch/>
        </p:blipFill>
        <p:spPr>
          <a:xfrm>
            <a:off x="5994360" y="2009880"/>
            <a:ext cx="3130560" cy="169056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14"/>
          <a:stretch/>
        </p:blipFill>
        <p:spPr>
          <a:xfrm>
            <a:off x="6245280" y="4127400"/>
            <a:ext cx="2611440" cy="19479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15"/>
          <a:stretch/>
        </p:blipFill>
        <p:spPr>
          <a:xfrm>
            <a:off x="503280" y="4094280"/>
            <a:ext cx="2122560" cy="178272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16"/>
          <a:stretch/>
        </p:blipFill>
        <p:spPr>
          <a:xfrm>
            <a:off x="3276720" y="4113360"/>
            <a:ext cx="2522520" cy="1881000"/>
          </a:xfrm>
          <a:prstGeom prst="rect">
            <a:avLst/>
          </a:prstGeom>
          <a:ln w="0">
            <a:noFill/>
          </a:ln>
        </p:spPr>
      </p:pic>
      <p:grpSp>
        <p:nvGrpSpPr>
          <p:cNvPr id="742" name=""/>
          <p:cNvGrpSpPr/>
          <p:nvPr/>
        </p:nvGrpSpPr>
        <p:grpSpPr>
          <a:xfrm>
            <a:off x="3743280" y="1925640"/>
            <a:ext cx="2016000" cy="1008000"/>
            <a:chOff x="3743280" y="1925640"/>
            <a:chExt cx="2016000" cy="1008000"/>
          </a:xfrm>
        </p:grpSpPr>
        <p:sp>
          <p:nvSpPr>
            <p:cNvPr id="743" name=""/>
            <p:cNvSpPr/>
            <p:nvPr/>
          </p:nvSpPr>
          <p:spPr>
            <a:xfrm>
              <a:off x="3743280" y="1960560"/>
              <a:ext cx="576360" cy="2160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3887640" y="2428920"/>
              <a:ext cx="684360" cy="504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5076720" y="1925640"/>
              <a:ext cx="682560" cy="287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 flipV="1">
              <a:off x="5111280" y="2500200"/>
              <a:ext cx="505080" cy="433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6696000" y="1996920"/>
            <a:ext cx="1332000" cy="1656000"/>
            <a:chOff x="6696000" y="1996920"/>
            <a:chExt cx="1332000" cy="1656000"/>
          </a:xfrm>
        </p:grpSpPr>
        <p:sp>
          <p:nvSpPr>
            <p:cNvPr id="748" name=""/>
            <p:cNvSpPr/>
            <p:nvPr/>
          </p:nvSpPr>
          <p:spPr>
            <a:xfrm>
              <a:off x="6696000" y="1996920"/>
              <a:ext cx="0" cy="16560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028000" y="2033640"/>
              <a:ext cx="0" cy="323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443280" y="2320920"/>
            <a:ext cx="1765800" cy="1332000"/>
            <a:chOff x="6443280" y="2320920"/>
            <a:chExt cx="1765800" cy="1332000"/>
          </a:xfrm>
        </p:grpSpPr>
        <p:sp>
          <p:nvSpPr>
            <p:cNvPr id="751" name=""/>
            <p:cNvSpPr/>
            <p:nvPr/>
          </p:nvSpPr>
          <p:spPr>
            <a:xfrm flipH="1">
              <a:off x="6443280" y="3652920"/>
              <a:ext cx="9730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812000" y="2320920"/>
              <a:ext cx="3970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2411280" y="1844640"/>
            <a:ext cx="432000" cy="612720"/>
          </a:xfrm>
          <a:prstGeom prst="upArrow">
            <a:avLst>
              <a:gd name="adj1" fmla="val 50000"/>
              <a:gd name="adj2" fmla="val 35458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938240" y="1233360"/>
            <a:ext cx="522144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 aire que forma la atmósfera es un gas y ejerce presión sobre cualquier cuerpo que se encuentre en é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187280" y="4616280"/>
            <a:ext cx="0" cy="7207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960720" y="4870440"/>
            <a:ext cx="0" cy="5745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8126280" y="5634000"/>
            <a:ext cx="1800" cy="603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395280" y="1983960"/>
            <a:ext cx="973080" cy="863640"/>
            <a:chOff x="395280" y="1983960"/>
            <a:chExt cx="973080" cy="863640"/>
          </a:xfrm>
        </p:grpSpPr>
        <p:sp>
          <p:nvSpPr>
            <p:cNvPr id="759" name=""/>
            <p:cNvSpPr/>
            <p:nvPr/>
          </p:nvSpPr>
          <p:spPr>
            <a:xfrm flipV="1">
              <a:off x="1244520" y="1983960"/>
              <a:ext cx="0" cy="863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95280" y="2152800"/>
              <a:ext cx="97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Arial"/>
                </a:rPr>
                <a:t>Empu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2340000" y="2933640"/>
            <a:ext cx="973080" cy="539640"/>
            <a:chOff x="2340000" y="2933640"/>
            <a:chExt cx="973080" cy="539640"/>
          </a:xfrm>
        </p:grpSpPr>
        <p:sp>
          <p:nvSpPr>
            <p:cNvPr id="762" name=""/>
            <p:cNvSpPr/>
            <p:nvPr/>
          </p:nvSpPr>
          <p:spPr>
            <a:xfrm>
              <a:off x="2340000" y="2933640"/>
              <a:ext cx="0" cy="53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340000" y="2960640"/>
              <a:ext cx="97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P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4000"/>
                            </p:stCondLst>
                            <p:childTnLst>
                              <p:par>
                                <p:cTn id="7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6000"/>
                            </p:stCondLst>
                            <p:childTnLst>
                              <p:par>
                                <p:cTn id="7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6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54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58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7000"/>
                            </p:stCondLst>
                            <p:childTnLst>
                              <p:par>
                                <p:cTn id="7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2100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4000"/>
                            </p:stCondLst>
                            <p:childTnLst>
                              <p:par>
                                <p:cTn id="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7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8000"/>
                            </p:stCondLst>
                            <p:childTnLst>
                              <p:par>
                                <p:cTn id="78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presión atmosférica y la alt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766" name="">
              <a:hlinkClick r:id="rId1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>
              <a:hlinkClick r:id="rId2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>
              <a:hlinkClick r:id="rId3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770" name="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>
              <a:hlinkClick r:id="rId5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>
              <a:hlinkClick r:id="rId6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774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776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8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779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781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3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784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788" name="">
              <a:hlinkClick r:id="rId7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>
              <a:hlinkClick r:id="rId8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>
              <a:hlinkClick r:id="rId9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0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3" name=""/>
          <p:cNvGraphicFramePr/>
          <p:nvPr/>
        </p:nvGraphicFramePr>
        <p:xfrm>
          <a:off x="395280" y="1700280"/>
          <a:ext cx="5040360" cy="411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5280" y="1700280"/>
                    <a:ext cx="504036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"/>
          <p:cNvSpPr/>
          <p:nvPr/>
        </p:nvSpPr>
        <p:spPr>
          <a:xfrm flipH="1">
            <a:off x="4824360" y="5589720"/>
            <a:ext cx="827280" cy="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294160" y="5448240"/>
            <a:ext cx="18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ivel del 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1800360" y="1808280"/>
            <a:ext cx="2771640" cy="3284280"/>
            <a:chOff x="1800360" y="1808280"/>
            <a:chExt cx="2771640" cy="3284280"/>
          </a:xfrm>
        </p:grpSpPr>
        <p:sp>
          <p:nvSpPr>
            <p:cNvPr id="798" name=""/>
            <p:cNvSpPr/>
            <p:nvPr/>
          </p:nvSpPr>
          <p:spPr>
            <a:xfrm>
              <a:off x="2232000" y="5092560"/>
              <a:ext cx="15843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800360" y="1808280"/>
              <a:ext cx="27716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3708360" y="1808280"/>
            <a:ext cx="863640" cy="3781440"/>
            <a:chOff x="3708360" y="1808280"/>
            <a:chExt cx="863640" cy="3781440"/>
          </a:xfrm>
        </p:grpSpPr>
        <p:sp>
          <p:nvSpPr>
            <p:cNvPr id="801" name=""/>
            <p:cNvSpPr/>
            <p:nvPr/>
          </p:nvSpPr>
          <p:spPr>
            <a:xfrm>
              <a:off x="3708360" y="5084640"/>
              <a:ext cx="0" cy="5050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572000" y="1808280"/>
              <a:ext cx="0" cy="37814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3166920" y="1592280"/>
            <a:ext cx="1801800" cy="3542400"/>
            <a:chOff x="3166920" y="1592280"/>
            <a:chExt cx="1801800" cy="3542400"/>
          </a:xfrm>
        </p:grpSpPr>
        <p:sp>
          <p:nvSpPr>
            <p:cNvPr id="804" name=""/>
            <p:cNvSpPr/>
            <p:nvPr/>
          </p:nvSpPr>
          <p:spPr>
            <a:xfrm>
              <a:off x="3166920" y="4797360"/>
              <a:ext cx="3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72000" y="1592280"/>
              <a:ext cx="3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3780000" y="3465360"/>
            <a:ext cx="1188720" cy="2063160"/>
            <a:chOff x="3780000" y="3465360"/>
            <a:chExt cx="1188720" cy="2063160"/>
          </a:xfrm>
        </p:grpSpPr>
        <p:sp>
          <p:nvSpPr>
            <p:cNvPr id="807" name=""/>
            <p:cNvSpPr/>
            <p:nvPr/>
          </p:nvSpPr>
          <p:spPr>
            <a:xfrm>
              <a:off x="4572000" y="3465360"/>
              <a:ext cx="396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h</a:t>
              </a:r>
              <a:r>
                <a:rPr b="0" lang="es-ES" sz="1600" spc="-1" strike="noStrike" baseline="-25000">
                  <a:solidFill>
                    <a:srgbClr val="0066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780000" y="5157720"/>
              <a:ext cx="396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h</a:t>
              </a:r>
              <a:r>
                <a:rPr b="0" lang="es-ES" sz="1600" spc="-1" strike="noStrike" baseline="-25000">
                  <a:solidFill>
                    <a:srgbClr val="0066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6135840" y="1892160"/>
            <a:ext cx="1378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=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135840" y="2852640"/>
            <a:ext cx="1378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=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739840" y="14130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En la base del edif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801760" y="2371680"/>
            <a:ext cx="20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En lo alto del edif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645240" y="3392640"/>
            <a:ext cx="360360" cy="433080"/>
          </a:xfrm>
          <a:prstGeom prst="downArrow">
            <a:avLst>
              <a:gd name="adj1" fmla="val 50000"/>
              <a:gd name="adj2" fmla="val 30045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833360" y="3860640"/>
            <a:ext cx="3984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-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–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 (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–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645240" y="429264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89000" y="4761000"/>
            <a:ext cx="2471400" cy="3708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-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ltura del edif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3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3000"/>
                            </p:stCondLst>
                            <p:childTnLst>
                              <p:par>
                                <p:cTn id="7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3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500"/>
                            </p:stCondLst>
                            <p:childTnLst>
                              <p:par>
                                <p:cTn id="805" nodeType="afterEffect" fill="hold" presetClass="entr" presetID="1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7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80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0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000"/>
                            </p:stCondLst>
                            <p:childTnLst>
                              <p:par>
                                <p:cTn id="8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6000"/>
                            </p:stCondLst>
                            <p:childTnLst>
                              <p:par>
                                <p:cTn id="8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8000"/>
                            </p:stCondLst>
                            <p:childTnLst>
                              <p:par>
                                <p:cTn id="8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7" name=""/>
          <p:cNvGraphicFramePr/>
          <p:nvPr/>
        </p:nvGraphicFramePr>
        <p:xfrm>
          <a:off x="2816280" y="2152800"/>
          <a:ext cx="1709640" cy="27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6280" y="2152800"/>
                    <a:ext cx="1709640" cy="27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9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botella de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821" name="">
              <a:hlinkClick r:id="rId3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>
              <a:hlinkClick r:id="rId4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>
              <a:hlinkClick r:id="rId5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825" name="">
              <a:hlinkClick r:id="rId6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>
              <a:hlinkClick r:id="rId7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>
              <a:hlinkClick r:id="rId8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829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831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3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834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5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836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8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839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843" name="">
              <a:hlinkClick r:id="rId9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>
              <a:hlinkClick r:id="rId10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>
              <a:hlinkClick r:id="rId11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2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13"/>
          <a:srcRect l="11614" t="0" r="63851" b="0"/>
          <a:stretch/>
        </p:blipFill>
        <p:spPr>
          <a:xfrm>
            <a:off x="5280120" y="2149560"/>
            <a:ext cx="1476360" cy="270648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14"/>
          <a:srcRect l="10769" t="0" r="64077" b="0"/>
          <a:stretch/>
        </p:blipFill>
        <p:spPr>
          <a:xfrm>
            <a:off x="358920" y="2149560"/>
            <a:ext cx="1512720" cy="270648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15"/>
          <a:srcRect l="61959" t="0" r="15552" b="0"/>
          <a:stretch/>
        </p:blipFill>
        <p:spPr>
          <a:xfrm>
            <a:off x="7416720" y="2149560"/>
            <a:ext cx="1352520" cy="270648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16"/>
          <a:srcRect l="54855" t="0" r="10471" b="0"/>
          <a:stretch/>
        </p:blipFill>
        <p:spPr>
          <a:xfrm>
            <a:off x="2544840" y="2147760"/>
            <a:ext cx="2084400" cy="270684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1952640" y="5618160"/>
            <a:ext cx="522144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 presión ejercida en un punto de un líquido se transmite íntegramente a todos los puntos del mis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158840" y="3075120"/>
            <a:ext cx="18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Botella de Pas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95280" y="5170320"/>
            <a:ext cx="18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Tapones de g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1295280" y="3333600"/>
            <a:ext cx="432000" cy="2160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150920" y="4557600"/>
            <a:ext cx="396720" cy="649440"/>
            <a:chOff x="1150920" y="4557600"/>
            <a:chExt cx="396720" cy="649440"/>
          </a:xfrm>
        </p:grpSpPr>
        <p:sp>
          <p:nvSpPr>
            <p:cNvPr id="857" name=""/>
            <p:cNvSpPr/>
            <p:nvPr/>
          </p:nvSpPr>
          <p:spPr>
            <a:xfrm flipV="1">
              <a:off x="1150920" y="4773600"/>
              <a:ext cx="0" cy="4334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1440000" y="4557600"/>
              <a:ext cx="107640" cy="6494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9" name=""/>
          <p:cNvSpPr/>
          <p:nvPr/>
        </p:nvSpPr>
        <p:spPr>
          <a:xfrm>
            <a:off x="3348000" y="2109960"/>
            <a:ext cx="0" cy="107928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411280" y="1822320"/>
            <a:ext cx="18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Bajamos el émb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2987640" y="3644640"/>
            <a:ext cx="1251000" cy="1025640"/>
            <a:chOff x="2987640" y="3644640"/>
            <a:chExt cx="1251000" cy="1025640"/>
          </a:xfrm>
        </p:grpSpPr>
        <p:sp>
          <p:nvSpPr>
            <p:cNvPr id="862" name=""/>
            <p:cNvSpPr/>
            <p:nvPr/>
          </p:nvSpPr>
          <p:spPr>
            <a:xfrm flipV="1">
              <a:off x="3816360" y="3645000"/>
              <a:ext cx="395280" cy="288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1960" y="4060800"/>
              <a:ext cx="436680" cy="30240"/>
            </a:xfrm>
            <a:custGeom>
              <a:avLst/>
              <a:gdLst/>
              <a:ahLst/>
              <a:rect l="l" t="t" r="r" b="b"/>
              <a:pathLst>
                <a:path w="275" h="19">
                  <a:moveTo>
                    <a:pt x="0" y="19"/>
                  </a:moveTo>
                  <a:lnTo>
                    <a:pt x="275" y="0"/>
                  </a:ln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730680" y="4192560"/>
              <a:ext cx="347760" cy="260280"/>
            </a:xfrm>
            <a:custGeom>
              <a:avLst/>
              <a:gdLst/>
              <a:ahLst/>
              <a:rect l="l" t="t" r="r" b="b"/>
              <a:pathLst>
                <a:path w="219" h="164">
                  <a:moveTo>
                    <a:pt x="0" y="0"/>
                  </a:moveTo>
                  <a:lnTo>
                    <a:pt x="219" y="164"/>
                  </a:ln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629160" y="4221000"/>
              <a:ext cx="1440" cy="449280"/>
            </a:xfrm>
            <a:custGeom>
              <a:avLst/>
              <a:gdLst/>
              <a:ahLst/>
              <a:rect l="l" t="t" r="r" b="b"/>
              <a:pathLst>
                <a:path w="1" h="283">
                  <a:moveTo>
                    <a:pt x="0" y="0"/>
                  </a:moveTo>
                  <a:lnTo>
                    <a:pt x="0" y="283"/>
                  </a:ln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3166920" y="4184640"/>
              <a:ext cx="325440" cy="325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2987640" y="4076640"/>
              <a:ext cx="5047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 flipV="1">
              <a:off x="3131640" y="3644640"/>
              <a:ext cx="360360" cy="323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7812000" y="2109960"/>
            <a:ext cx="0" cy="107928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853320" y="1822320"/>
            <a:ext cx="18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Bajamos el émb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037880" y="1308240"/>
            <a:ext cx="2680200" cy="276480"/>
          </a:xfrm>
          <a:prstGeom prst="rect">
            <a:avLst/>
          </a:prstGeom>
          <a:solidFill>
            <a:srgbClr val="00ff00">
              <a:alpha val="29000"/>
            </a:srgbClr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AGUA – FLUIDO INCOMPRE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828760" y="1308240"/>
            <a:ext cx="2444040" cy="276480"/>
          </a:xfrm>
          <a:prstGeom prst="rect">
            <a:avLst/>
          </a:prstGeom>
          <a:solidFill>
            <a:srgbClr val="00ff00">
              <a:alpha val="29000"/>
            </a:srgbClr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AIRE – FLUIDO COMPRE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000"/>
                            </p:stCondLst>
                            <p:childTnLst>
                              <p:par>
                                <p:cTn id="8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2000"/>
                            </p:stCondLst>
                            <p:childTnLst>
                              <p:par>
                                <p:cTn id="8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879" nodeType="afterEffect" fill="hold" presetClass="entr" presetID="4" presetSubtype="32" repeatCount="3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1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7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000"/>
                            </p:stCondLst>
                            <p:childTnLst>
                              <p:par>
                                <p:cTn id="90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prensa hidráu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875" name="">
              <a:hlinkClick r:id="rId1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>
              <a:hlinkClick r:id="rId2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>
              <a:hlinkClick r:id="rId3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879" name="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>
              <a:hlinkClick r:id="rId5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>
              <a:hlinkClick r:id="rId6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883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885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888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890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2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893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897" name="">
              <a:hlinkClick r:id="rId7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>
              <a:hlinkClick r:id="rId8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>
              <a:hlinkClick r:id="rId9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10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2" name=""/>
          <p:cNvGraphicFramePr/>
          <p:nvPr/>
        </p:nvGraphicFramePr>
        <p:xfrm>
          <a:off x="647640" y="1773360"/>
          <a:ext cx="4651560" cy="369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640" y="1773360"/>
                    <a:ext cx="4651560" cy="36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4" name=""/>
          <p:cNvSpPr/>
          <p:nvPr/>
        </p:nvSpPr>
        <p:spPr>
          <a:xfrm>
            <a:off x="1109520" y="3827520"/>
            <a:ext cx="1089000" cy="931680"/>
          </a:xfrm>
          <a:custGeom>
            <a:avLst/>
            <a:gdLst/>
            <a:ahLst/>
            <a:rect l="l" t="t" r="r" b="b"/>
            <a:pathLst>
              <a:path w="686" h="587">
                <a:moveTo>
                  <a:pt x="4" y="0"/>
                </a:moveTo>
                <a:lnTo>
                  <a:pt x="0" y="587"/>
                </a:lnTo>
                <a:lnTo>
                  <a:pt x="686" y="587"/>
                </a:lnTo>
              </a:path>
            </a:pathLst>
          </a:custGeom>
          <a:noFill/>
          <a:ln w="572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492360" y="4178160"/>
            <a:ext cx="941400" cy="628920"/>
          </a:xfrm>
          <a:custGeom>
            <a:avLst/>
            <a:gdLst/>
            <a:ahLst/>
            <a:rect l="l" t="t" r="r" b="b"/>
            <a:pathLst>
              <a:path w="593" h="396">
                <a:moveTo>
                  <a:pt x="0" y="392"/>
                </a:moveTo>
                <a:lnTo>
                  <a:pt x="587" y="396"/>
                </a:lnTo>
                <a:lnTo>
                  <a:pt x="593" y="0"/>
                </a:lnTo>
              </a:path>
            </a:pathLst>
          </a:custGeom>
          <a:noFill/>
          <a:ln w="572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0" y="2351160"/>
            <a:ext cx="1865160" cy="828720"/>
            <a:chOff x="0" y="2351160"/>
            <a:chExt cx="1865160" cy="828720"/>
          </a:xfrm>
        </p:grpSpPr>
        <p:sp>
          <p:nvSpPr>
            <p:cNvPr id="907" name=""/>
            <p:cNvSpPr/>
            <p:nvPr/>
          </p:nvSpPr>
          <p:spPr>
            <a:xfrm>
              <a:off x="1152360" y="2351160"/>
              <a:ext cx="0" cy="82872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0" y="2351160"/>
              <a:ext cx="1865160" cy="496800"/>
              <a:chOff x="0" y="2351160"/>
              <a:chExt cx="1865160" cy="496800"/>
            </a:xfrm>
          </p:grpSpPr>
          <p:sp>
            <p:nvSpPr>
              <p:cNvPr id="909" name=""/>
              <p:cNvSpPr/>
              <p:nvPr/>
            </p:nvSpPr>
            <p:spPr>
              <a:xfrm>
                <a:off x="0" y="2511720"/>
                <a:ext cx="1865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6600"/>
                    </a:solidFill>
                    <a:latin typeface="Arial"/>
                  </a:rPr>
                  <a:t>F</a:t>
                </a:r>
                <a:r>
                  <a:rPr b="1" lang="en-US" sz="1400" spc="-1" strike="noStrike" baseline="-25000">
                    <a:solidFill>
                      <a:srgbClr val="0066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53840" y="235116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→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1" name=""/>
          <p:cNvGrpSpPr/>
          <p:nvPr/>
        </p:nvGrpSpPr>
        <p:grpSpPr>
          <a:xfrm>
            <a:off x="3679920" y="2890440"/>
            <a:ext cx="1865160" cy="1081080"/>
            <a:chOff x="3679920" y="2890440"/>
            <a:chExt cx="1865160" cy="1081080"/>
          </a:xfrm>
        </p:grpSpPr>
        <p:sp>
          <p:nvSpPr>
            <p:cNvPr id="912" name=""/>
            <p:cNvSpPr/>
            <p:nvPr/>
          </p:nvSpPr>
          <p:spPr>
            <a:xfrm flipV="1">
              <a:off x="4429080" y="2890440"/>
              <a:ext cx="0" cy="108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3" name=""/>
            <p:cNvGrpSpPr/>
            <p:nvPr/>
          </p:nvGrpSpPr>
          <p:grpSpPr>
            <a:xfrm>
              <a:off x="3679920" y="3290760"/>
              <a:ext cx="1865160" cy="496800"/>
              <a:chOff x="3679920" y="3290760"/>
              <a:chExt cx="1865160" cy="496800"/>
            </a:xfrm>
          </p:grpSpPr>
          <p:sp>
            <p:nvSpPr>
              <p:cNvPr id="914" name=""/>
              <p:cNvSpPr/>
              <p:nvPr/>
            </p:nvSpPr>
            <p:spPr>
              <a:xfrm>
                <a:off x="3679920" y="3451320"/>
                <a:ext cx="1865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6600"/>
                    </a:solidFill>
                    <a:latin typeface="Arial"/>
                  </a:rPr>
                  <a:t>F</a:t>
                </a:r>
                <a:r>
                  <a:rPr b="1" lang="en-US" sz="14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433760" y="329076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→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6" name=""/>
          <p:cNvGrpSpPr/>
          <p:nvPr/>
        </p:nvGrpSpPr>
        <p:grpSpPr>
          <a:xfrm>
            <a:off x="1584360" y="3214800"/>
            <a:ext cx="2124000" cy="733320"/>
            <a:chOff x="1584360" y="3214800"/>
            <a:chExt cx="2124000" cy="733320"/>
          </a:xfrm>
        </p:grpSpPr>
        <p:sp>
          <p:nvSpPr>
            <p:cNvPr id="917" name=""/>
            <p:cNvSpPr/>
            <p:nvPr/>
          </p:nvSpPr>
          <p:spPr>
            <a:xfrm>
              <a:off x="1584360" y="3611880"/>
              <a:ext cx="755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66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952720" y="3214800"/>
              <a:ext cx="755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950760" y="3511440"/>
            <a:ext cx="7574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490920" y="333072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256360" y="2279520"/>
            <a:ext cx="468000" cy="613080"/>
          </a:xfrm>
          <a:prstGeom prst="upArrow">
            <a:avLst>
              <a:gd name="adj1" fmla="val 50000"/>
              <a:gd name="adj2" fmla="val 3275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908040" y="3168720"/>
            <a:ext cx="82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 =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p</a:t>
            </a:r>
            <a:r>
              <a:rPr b="0" lang="en-U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7128000" y="371304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6093720" y="1736640"/>
            <a:ext cx="1005120" cy="685080"/>
            <a:chOff x="6093720" y="1736640"/>
            <a:chExt cx="1005120" cy="685080"/>
          </a:xfrm>
        </p:grpSpPr>
        <p:grpSp>
          <p:nvGrpSpPr>
            <p:cNvPr id="925" name=""/>
            <p:cNvGrpSpPr/>
            <p:nvPr/>
          </p:nvGrpSpPr>
          <p:grpSpPr>
            <a:xfrm>
              <a:off x="6593040" y="1736640"/>
              <a:ext cx="505800" cy="685080"/>
              <a:chOff x="6593040" y="1736640"/>
              <a:chExt cx="505800" cy="685080"/>
            </a:xfrm>
          </p:grpSpPr>
          <p:sp>
            <p:nvSpPr>
              <p:cNvPr id="926" name=""/>
              <p:cNvSpPr/>
              <p:nvPr/>
            </p:nvSpPr>
            <p:spPr>
              <a:xfrm>
                <a:off x="6672600" y="1736640"/>
                <a:ext cx="4262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F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593040" y="2076480"/>
                <a:ext cx="502920" cy="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646680" y="2050920"/>
                <a:ext cx="438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S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9" name=""/>
            <p:cNvSpPr/>
            <p:nvPr/>
          </p:nvSpPr>
          <p:spPr>
            <a:xfrm>
              <a:off x="6093720" y="1893960"/>
              <a:ext cx="646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6600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006600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=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  <a:ea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7336440" y="1736640"/>
            <a:ext cx="972000" cy="685080"/>
            <a:chOff x="7336440" y="1736640"/>
            <a:chExt cx="972000" cy="685080"/>
          </a:xfrm>
        </p:grpSpPr>
        <p:grpSp>
          <p:nvGrpSpPr>
            <p:cNvPr id="931" name=""/>
            <p:cNvGrpSpPr/>
            <p:nvPr/>
          </p:nvGrpSpPr>
          <p:grpSpPr>
            <a:xfrm>
              <a:off x="7802640" y="1736640"/>
              <a:ext cx="505800" cy="685080"/>
              <a:chOff x="7802640" y="1736640"/>
              <a:chExt cx="505800" cy="685080"/>
            </a:xfrm>
          </p:grpSpPr>
          <p:sp>
            <p:nvSpPr>
              <p:cNvPr id="932" name=""/>
              <p:cNvSpPr/>
              <p:nvPr/>
            </p:nvSpPr>
            <p:spPr>
              <a:xfrm>
                <a:off x="7882200" y="1736640"/>
                <a:ext cx="4262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F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802640" y="2076480"/>
                <a:ext cx="502920" cy="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856280" y="2050920"/>
                <a:ext cx="438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S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>
              <a:off x="7336440" y="1895400"/>
              <a:ext cx="590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6600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=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7128000" y="267012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rot="16200000">
            <a:off x="7224480" y="1263600"/>
            <a:ext cx="144720" cy="2268360"/>
          </a:xfrm>
          <a:custGeom>
            <a:avLst/>
            <a:gdLst>
              <a:gd name="textAreaLeft" fmla="*/ 92520 w 144720"/>
              <a:gd name="textAreaRight" fmla="*/ 145080 w 144720"/>
              <a:gd name="textAreaTop" fmla="*/ 59040 h 2268360"/>
              <a:gd name="textAreaBottom" fmla="*/ 2209320 h 22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6683400" y="4218120"/>
            <a:ext cx="1245600" cy="685080"/>
            <a:chOff x="6683400" y="4218120"/>
            <a:chExt cx="1245600" cy="685080"/>
          </a:xfrm>
        </p:grpSpPr>
        <p:grpSp>
          <p:nvGrpSpPr>
            <p:cNvPr id="939" name=""/>
            <p:cNvGrpSpPr/>
            <p:nvPr/>
          </p:nvGrpSpPr>
          <p:grpSpPr>
            <a:xfrm>
              <a:off x="7423200" y="4218120"/>
              <a:ext cx="505800" cy="685080"/>
              <a:chOff x="7423200" y="4218120"/>
              <a:chExt cx="505800" cy="685080"/>
            </a:xfrm>
          </p:grpSpPr>
          <p:sp>
            <p:nvSpPr>
              <p:cNvPr id="940" name=""/>
              <p:cNvSpPr/>
              <p:nvPr/>
            </p:nvSpPr>
            <p:spPr>
              <a:xfrm>
                <a:off x="7502760" y="4218120"/>
                <a:ext cx="4262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F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423200" y="4557960"/>
                <a:ext cx="502920" cy="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476840" y="4532400"/>
                <a:ext cx="438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S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6683400" y="4218120"/>
              <a:ext cx="505800" cy="685080"/>
              <a:chOff x="6683400" y="4218120"/>
              <a:chExt cx="505800" cy="685080"/>
            </a:xfrm>
          </p:grpSpPr>
          <p:sp>
            <p:nvSpPr>
              <p:cNvPr id="944" name=""/>
              <p:cNvSpPr/>
              <p:nvPr/>
            </p:nvSpPr>
            <p:spPr>
              <a:xfrm>
                <a:off x="6762960" y="4218120"/>
                <a:ext cx="4262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F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683400" y="4557960"/>
                <a:ext cx="502920" cy="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737040" y="4532400"/>
                <a:ext cx="438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S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7097040" y="4384800"/>
              <a:ext cx="41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=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000"/>
                            </p:stCondLst>
                            <p:childTnLst>
                              <p:par>
                                <p:cTn id="9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500"/>
                            </p:stCondLst>
                            <p:childTnLst>
                              <p:par>
                                <p:cTn id="94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500"/>
                            </p:stCondLst>
                            <p:childTnLst>
                              <p:par>
                                <p:cTn id="94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3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2500"/>
                            </p:stCondLst>
                            <p:childTnLst>
                              <p:par>
                                <p:cTn id="9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300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35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4000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792000" y="72216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Enlaces de inte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84360" y="105264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1"/>
          <a:stretch/>
        </p:blipFill>
        <p:spPr>
          <a:xfrm>
            <a:off x="46080" y="404640"/>
            <a:ext cx="817560" cy="863640"/>
          </a:xfrm>
          <a:prstGeom prst="rect">
            <a:avLst/>
          </a:prstGeom>
          <a:ln w="0">
            <a:noFill/>
          </a:ln>
        </p:spPr>
      </p:pic>
      <p:grpSp>
        <p:nvGrpSpPr>
          <p:cNvPr id="951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952" name="">
              <a:hlinkClick r:id="rId2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>
              <a:hlinkClick r:id="rId3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>
              <a:hlinkClick r:id="rId4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956" name="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>
              <a:hlinkClick r:id="rId6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>
              <a:hlinkClick r:id="rId7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960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962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4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965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6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967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9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970" name="">
              <a:hlinkClick r:id="rId8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>
              <a:hlinkClick r:id="rId9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>
              <a:hlinkClick r:id="rId10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576360" y="1773360"/>
            <a:ext cx="3240000" cy="3456000"/>
          </a:xfrm>
          <a:prstGeom prst="rect">
            <a:avLst/>
          </a:prstGeom>
          <a:solidFill>
            <a:srgbClr val="ccff66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8a2e"/>
                </a:solidFill>
                <a:latin typeface="Arial"/>
              </a:rPr>
              <a:t>Presión y fl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448000" y="5013360"/>
            <a:ext cx="15112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R A ESTA WE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519280" y="5084640"/>
            <a:ext cx="216000" cy="216000"/>
          </a:xfrm>
          <a:prstGeom prst="ellipse">
            <a:avLst/>
          </a:prstGeom>
          <a:solidFill>
            <a:srgbClr val="2e8a2e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rot="5400000">
            <a:off x="2582640" y="5130720"/>
            <a:ext cx="142920" cy="123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4916520" y="1773360"/>
            <a:ext cx="3382920" cy="3600360"/>
            <a:chOff x="4916520" y="1773360"/>
            <a:chExt cx="3382920" cy="3600360"/>
          </a:xfrm>
        </p:grpSpPr>
        <p:sp>
          <p:nvSpPr>
            <p:cNvPr id="978" name="">
              <a:hlinkClick r:id="rId11"/>
            </p:cNvPr>
            <p:cNvSpPr/>
            <p:nvPr/>
          </p:nvSpPr>
          <p:spPr>
            <a:xfrm>
              <a:off x="4916520" y="1773360"/>
              <a:ext cx="3240000" cy="345600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a2e"/>
                  </a:solidFill>
                  <a:latin typeface="Arial"/>
                </a:rPr>
                <a:t>Principio de Arquíme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6788160" y="5013360"/>
              <a:ext cx="1511280" cy="360360"/>
              <a:chOff x="6788160" y="5013360"/>
              <a:chExt cx="1511280" cy="360360"/>
            </a:xfrm>
          </p:grpSpPr>
          <p:sp>
            <p:nvSpPr>
              <p:cNvPr id="980" name="">
                <a:hlinkClick r:id="rId12"/>
              </p:cNvPr>
              <p:cNvSpPr/>
              <p:nvPr/>
            </p:nvSpPr>
            <p:spPr>
              <a:xfrm>
                <a:off x="6788160" y="5013360"/>
                <a:ext cx="151128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IR A ESTA WE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>
                <a:hlinkClick r:id="rId13"/>
              </p:cNvPr>
              <p:cNvSpPr/>
              <p:nvPr/>
            </p:nvSpPr>
            <p:spPr>
              <a:xfrm>
                <a:off x="6859440" y="5084640"/>
                <a:ext cx="216000" cy="21600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>
                <a:hlinkClick r:id="rId14"/>
              </p:cNvPr>
              <p:cNvSpPr/>
              <p:nvPr/>
            </p:nvSpPr>
            <p:spPr>
              <a:xfrm rot="5400000">
                <a:off x="6913440" y="512604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983" name=""/>
          <p:cNvGraphicFramePr/>
          <p:nvPr/>
        </p:nvGraphicFramePr>
        <p:xfrm>
          <a:off x="5256360" y="2276640"/>
          <a:ext cx="3562200" cy="2093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84" name="" descr="">
                    <a:hlinkClick r:id="rId16"/>
                  </p:cNvPr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256360" y="2276640"/>
                    <a:ext cx="3562200" cy="2093760"/>
                  </a:xfrm>
                  <a:prstGeom prst="rect">
                    <a:avLst/>
                  </a:prstGeom>
                  <a:ln w="9360">
                    <a:solidFill>
                      <a:srgbClr val="0066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985" name="" descr=""/>
          <p:cNvPicPr/>
          <p:nvPr/>
        </p:nvPicPr>
        <p:blipFill>
          <a:blip r:embed="rId18"/>
          <a:stretch/>
        </p:blipFill>
        <p:spPr>
          <a:xfrm>
            <a:off x="863640" y="2276640"/>
            <a:ext cx="3562200" cy="20937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4920" y="6764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Esquema de 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2920" y="1042920"/>
            <a:ext cx="889308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66160" y="1449360"/>
            <a:ext cx="312660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e8a2e"/>
                </a:solidFill>
                <a:latin typeface="Arial"/>
              </a:rPr>
              <a:t>Los fluidos y el principio de Arquíme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122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124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127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129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1370520" y="1952640"/>
            <a:ext cx="225180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a pérdida de peso en el ag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916360" y="2313000"/>
            <a:ext cx="287280" cy="28728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134" name="">
              <a:hlinkClick r:id="rId3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>
              <a:hlinkClick r:id="rId4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>
              <a:hlinkClick r:id="rId5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138" name="">
              <a:hlinkClick r:id="rId6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>
              <a:hlinkClick r:id="rId7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>
              <a:hlinkClick r:id="rId8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142" name="">
              <a:hlinkClick r:id="rId9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>
              <a:hlinkClick r:id="rId10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>
              <a:hlinkClick r:id="rId11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5" name=""/>
          <p:cNvCxnSpPr/>
          <p:nvPr/>
        </p:nvCxnSpPr>
        <p:spPr>
          <a:xfrm flipH="1" flipV="1" rot="10800000">
            <a:off x="863280" y="1627560"/>
            <a:ext cx="505440" cy="491400"/>
          </a:xfrm>
          <a:prstGeom prst="bentConnector3">
            <a:avLst>
              <a:gd name="adj1" fmla="val -45260"/>
            </a:avLst>
          </a:prstGeom>
          <a:ln w="9360">
            <a:solidFill>
              <a:srgbClr val="006600"/>
            </a:solidFill>
            <a:miter/>
          </a:ln>
        </p:spPr>
      </p:cxnSp>
      <p:sp>
        <p:nvSpPr>
          <p:cNvPr id="146" name=""/>
          <p:cNvSpPr/>
          <p:nvPr/>
        </p:nvSpPr>
        <p:spPr>
          <a:xfrm>
            <a:off x="1381680" y="2359080"/>
            <a:ext cx="157680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La fuerza de emp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3"/>
          <a:stretch/>
        </p:blipFill>
        <p:spPr>
          <a:xfrm>
            <a:off x="3564000" y="184464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381320" y="2752560"/>
            <a:ext cx="200808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El principio de Arquíme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5"/>
          <a:stretch/>
        </p:blipFill>
        <p:spPr>
          <a:xfrm>
            <a:off x="3348000" y="267336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390320" y="3122640"/>
            <a:ext cx="96264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Flota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/>
          <p:nvPr/>
        </p:nvCxnSpPr>
        <p:spPr>
          <a:xfrm>
            <a:off x="635040" y="2120400"/>
            <a:ext cx="743760" cy="39132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cxnSp>
        <p:nvCxnSpPr>
          <p:cNvPr id="152" name=""/>
          <p:cNvCxnSpPr/>
          <p:nvPr/>
        </p:nvCxnSpPr>
        <p:spPr>
          <a:xfrm>
            <a:off x="635040" y="2514240"/>
            <a:ext cx="743760" cy="39132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cxnSp>
        <p:nvCxnSpPr>
          <p:cNvPr id="153" name=""/>
          <p:cNvCxnSpPr/>
          <p:nvPr/>
        </p:nvCxnSpPr>
        <p:spPr>
          <a:xfrm>
            <a:off x="637920" y="2882520"/>
            <a:ext cx="743400" cy="39132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pic>
        <p:nvPicPr>
          <p:cNvPr id="154" name="" descr=""/>
          <p:cNvPicPr/>
          <p:nvPr/>
        </p:nvPicPr>
        <p:blipFill>
          <a:blip r:embed="rId17"/>
          <a:stretch/>
        </p:blipFill>
        <p:spPr>
          <a:xfrm>
            <a:off x="2303640" y="310500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8"/>
          <a:stretch/>
        </p:blipFill>
        <p:spPr>
          <a:xfrm>
            <a:off x="503280" y="3681360"/>
            <a:ext cx="1712880" cy="1432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9"/>
          <a:stretch/>
        </p:blipFill>
        <p:spPr>
          <a:xfrm>
            <a:off x="7448400" y="657360"/>
            <a:ext cx="1552680" cy="4352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0"/>
          <a:stretch/>
        </p:blipFill>
        <p:spPr>
          <a:xfrm>
            <a:off x="4427640" y="657360"/>
            <a:ext cx="1584360" cy="10490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04320" y="2673360"/>
            <a:ext cx="213444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Fuerzas ejercidas por flu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79240" y="2179800"/>
            <a:ext cx="288900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e8a2e"/>
                </a:solidFill>
                <a:latin typeface="Arial"/>
              </a:rPr>
              <a:t>Las fuerzas en el interior de un flu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/>
          <p:nvPr/>
        </p:nvCxnSpPr>
        <p:spPr>
          <a:xfrm flipH="1" flipV="1" rot="10800000">
            <a:off x="4170960" y="2318400"/>
            <a:ext cx="330840" cy="494280"/>
          </a:xfrm>
          <a:prstGeom prst="bentConnector3">
            <a:avLst>
              <a:gd name="adj1" fmla="val -69172"/>
            </a:avLst>
          </a:prstGeom>
          <a:ln w="9360">
            <a:solidFill>
              <a:srgbClr val="006600"/>
            </a:solidFill>
            <a:miter/>
          </a:ln>
        </p:spPr>
      </p:cxnSp>
      <p:cxnSp>
        <p:nvCxnSpPr>
          <p:cNvPr id="161" name=""/>
          <p:cNvCxnSpPr/>
          <p:nvPr/>
        </p:nvCxnSpPr>
        <p:spPr>
          <a:xfrm>
            <a:off x="3943440" y="3204720"/>
            <a:ext cx="743760" cy="39132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cxnSp>
        <p:nvCxnSpPr>
          <p:cNvPr id="162" name=""/>
          <p:cNvCxnSpPr/>
          <p:nvPr/>
        </p:nvCxnSpPr>
        <p:spPr>
          <a:xfrm>
            <a:off x="3941640" y="2815920"/>
            <a:ext cx="743760" cy="39132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4506840" y="3068640"/>
            <a:ext cx="89532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La pre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04320" y="3465360"/>
            <a:ext cx="172008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La presión hidrostá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/>
          <p:nvPr/>
        </p:nvCxnSpPr>
        <p:spPr>
          <a:xfrm>
            <a:off x="3940200" y="3600000"/>
            <a:ext cx="743760" cy="39132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4500000" y="3862440"/>
            <a:ext cx="285084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Principio fundamental de la hidrostá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5"/>
          <a:stretch/>
        </p:blipFill>
        <p:spPr>
          <a:xfrm>
            <a:off x="6588000" y="2637000"/>
            <a:ext cx="287640" cy="287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6"/>
          <a:stretch/>
        </p:blipFill>
        <p:spPr>
          <a:xfrm>
            <a:off x="6156360" y="3429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7"/>
          <a:stretch/>
        </p:blipFill>
        <p:spPr>
          <a:xfrm>
            <a:off x="5364000" y="3068640"/>
            <a:ext cx="287640" cy="287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8"/>
          <a:stretch/>
        </p:blipFill>
        <p:spPr>
          <a:xfrm>
            <a:off x="7015320" y="3605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086800" y="5737320"/>
            <a:ext cx="155988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La botella de Pas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17120" y="5737320"/>
            <a:ext cx="155844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prensa hidráu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"/>
          <p:cNvCxnSpPr/>
          <p:nvPr/>
        </p:nvCxnSpPr>
        <p:spPr>
          <a:xfrm>
            <a:off x="2457360" y="4516560"/>
            <a:ext cx="743760" cy="39096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cxnSp>
        <p:nvCxnSpPr>
          <p:cNvPr id="174" name=""/>
          <p:cNvCxnSpPr/>
          <p:nvPr/>
        </p:nvCxnSpPr>
        <p:spPr>
          <a:xfrm>
            <a:off x="2457360" y="4903920"/>
            <a:ext cx="743760" cy="39096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2340360" y="4292640"/>
            <a:ext cx="191520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e8a2e"/>
                </a:solidFill>
                <a:latin typeface="Arial"/>
              </a:rPr>
              <a:t>La presión en los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1480" y="4761000"/>
            <a:ext cx="172764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La presión atmosfé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39320" y="5157720"/>
            <a:ext cx="245916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La presión atmosférica y la altit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2"/>
          <a:stretch/>
        </p:blipFill>
        <p:spPr>
          <a:xfrm>
            <a:off x="4427640" y="4545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3"/>
          <a:stretch/>
        </p:blipFill>
        <p:spPr>
          <a:xfrm>
            <a:off x="5076720" y="494172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868720" y="5084640"/>
            <a:ext cx="176256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e8a2e"/>
                </a:solidFill>
                <a:latin typeface="Arial"/>
              </a:rPr>
              <a:t>El principio de Pas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"/>
          <p:cNvCxnSpPr>
            <a:stCxn id="180" idx="2"/>
            <a:endCxn id="171" idx="0"/>
          </p:cNvCxnSpPr>
          <p:nvPr/>
        </p:nvCxnSpPr>
        <p:spPr>
          <a:xfrm rot="5400000">
            <a:off x="6120720" y="5108400"/>
            <a:ext cx="375480" cy="883440"/>
          </a:xfrm>
          <a:prstGeom prst="bentConnector3">
            <a:avLst>
              <a:gd name="adj1" fmla="val 50000"/>
            </a:avLst>
          </a:prstGeom>
          <a:ln w="9360">
            <a:solidFill>
              <a:srgbClr val="006600"/>
            </a:solidFill>
            <a:miter/>
          </a:ln>
        </p:spPr>
      </p:cxnSp>
      <p:cxnSp>
        <p:nvCxnSpPr>
          <p:cNvPr id="182" name=""/>
          <p:cNvCxnSpPr>
            <a:endCxn id="172" idx="0"/>
          </p:cNvCxnSpPr>
          <p:nvPr/>
        </p:nvCxnSpPr>
        <p:spPr>
          <a:xfrm>
            <a:off x="6551280" y="5553000"/>
            <a:ext cx="1245240" cy="185040"/>
          </a:xfrm>
          <a:prstGeom prst="bentConnector2">
            <a:avLst/>
          </a:prstGeom>
          <a:ln w="9360">
            <a:solidFill>
              <a:srgbClr val="006600"/>
            </a:solidFill>
            <a:miter/>
          </a:ln>
        </p:spPr>
      </p:cxnSp>
      <p:pic>
        <p:nvPicPr>
          <p:cNvPr id="183" name="" descr=""/>
          <p:cNvPicPr/>
          <p:nvPr/>
        </p:nvPicPr>
        <p:blipFill>
          <a:blip r:embed="rId34"/>
          <a:stretch/>
        </p:blipFill>
        <p:spPr>
          <a:xfrm>
            <a:off x="4824360" y="558972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5"/>
          <a:stretch/>
        </p:blipFill>
        <p:spPr>
          <a:xfrm>
            <a:off x="8496360" y="5589720"/>
            <a:ext cx="287280" cy="2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5113440" y="1486080"/>
            <a:ext cx="2541600" cy="2195280"/>
            <a:chOff x="5113440" y="1486080"/>
            <a:chExt cx="2541600" cy="219528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5545080" y="1528920"/>
              <a:ext cx="2109960" cy="21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13440" y="1486080"/>
              <a:ext cx="97128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Para empezar, experimenta y pi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191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193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196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198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30120" y="627120"/>
            <a:ext cx="447840" cy="62856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202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206" name="">
              <a:hlinkClick r:id="rId3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>
              <a:hlinkClick r:id="rId4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>
              <a:hlinkClick r:id="rId5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210" name="">
              <a:hlinkClick r:id="rId6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>
              <a:hlinkClick r:id="rId7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>
              <a:hlinkClick r:id="rId8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214" name="">
              <a:hlinkClick r:id="rId9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>
              <a:hlinkClick r:id="rId10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>
              <a:hlinkClick r:id="rId11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039320" y="1268280"/>
            <a:ext cx="2314440" cy="30708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 principio de Arquíme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47360" y="1268280"/>
            <a:ext cx="784080" cy="30708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pu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2"/>
          <a:stretch/>
        </p:blipFill>
        <p:spPr>
          <a:xfrm>
            <a:off x="792000" y="1859040"/>
            <a:ext cx="2792520" cy="1809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3"/>
          <a:stretch/>
        </p:blipFill>
        <p:spPr>
          <a:xfrm>
            <a:off x="792000" y="4175280"/>
            <a:ext cx="2792520" cy="1809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16000" y="3706920"/>
            <a:ext cx="218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Botella llena de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68360" y="3608280"/>
            <a:ext cx="7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Glo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5985000"/>
            <a:ext cx="218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Botella llena de 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368360" y="3176280"/>
            <a:ext cx="71640" cy="53964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903040" y="1800360"/>
            <a:ext cx="34920" cy="539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51280" y="1628640"/>
            <a:ext cx="140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Insuflamos aire por la paji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332000" y="4976640"/>
            <a:ext cx="611280" cy="100836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0920" y="5192640"/>
            <a:ext cx="289080" cy="503280"/>
          </a:xfrm>
          <a:prstGeom prst="upArrow">
            <a:avLst>
              <a:gd name="adj1" fmla="val 50000"/>
              <a:gd name="adj2" fmla="val 43524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1692000" y="3105000"/>
            <a:ext cx="863640" cy="54000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143680" y="3727440"/>
            <a:ext cx="2298240" cy="2594160"/>
            <a:chOff x="5143680" y="3727440"/>
            <a:chExt cx="2298240" cy="2594160"/>
          </a:xfrm>
        </p:grpSpPr>
        <p:pic>
          <p:nvPicPr>
            <p:cNvPr id="231" name="" descr=""/>
            <p:cNvPicPr/>
            <p:nvPr/>
          </p:nvPicPr>
          <p:blipFill>
            <a:blip r:embed="rId14"/>
            <a:stretch/>
          </p:blipFill>
          <p:spPr>
            <a:xfrm>
              <a:off x="5473800" y="3727440"/>
              <a:ext cx="1968120" cy="259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143680" y="4112640"/>
              <a:ext cx="924120" cy="83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6408720" y="3033720"/>
            <a:ext cx="358920" cy="3589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43640" y="5626080"/>
            <a:ext cx="358920" cy="3589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588000" y="2241720"/>
            <a:ext cx="2376720" cy="1223640"/>
            <a:chOff x="6588000" y="2241720"/>
            <a:chExt cx="2376720" cy="1223640"/>
          </a:xfrm>
        </p:grpSpPr>
        <p:pic>
          <p:nvPicPr>
            <p:cNvPr id="236" name="" descr=""/>
            <p:cNvPicPr/>
            <p:nvPr/>
          </p:nvPicPr>
          <p:blipFill>
            <a:blip r:embed="rId15"/>
            <a:stretch/>
          </p:blipFill>
          <p:spPr>
            <a:xfrm>
              <a:off x="7740720" y="2241720"/>
              <a:ext cx="12240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6588000" y="2298600"/>
              <a:ext cx="1559160" cy="736560"/>
            </a:xfrm>
            <a:custGeom>
              <a:avLst/>
              <a:gdLst/>
              <a:ahLst/>
              <a:rect l="l" t="t" r="r" b="b"/>
              <a:pathLst>
                <a:path w="982" h="464">
                  <a:moveTo>
                    <a:pt x="0" y="464"/>
                  </a:moveTo>
                  <a:lnTo>
                    <a:pt x="982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24720" y="3392640"/>
              <a:ext cx="1719360" cy="61920"/>
            </a:xfrm>
            <a:custGeom>
              <a:avLst/>
              <a:gdLst/>
              <a:ahLst/>
              <a:rect l="l" t="t" r="r" b="b"/>
              <a:pathLst>
                <a:path w="1083" h="39">
                  <a:moveTo>
                    <a:pt x="0" y="0"/>
                  </a:moveTo>
                  <a:lnTo>
                    <a:pt x="1083" y="39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588000" y="4689360"/>
            <a:ext cx="2376720" cy="1292400"/>
            <a:chOff x="6588000" y="4689360"/>
            <a:chExt cx="2376720" cy="1292400"/>
          </a:xfrm>
        </p:grpSpPr>
        <p:pic>
          <p:nvPicPr>
            <p:cNvPr id="240" name="" descr=""/>
            <p:cNvPicPr/>
            <p:nvPr/>
          </p:nvPicPr>
          <p:blipFill>
            <a:blip r:embed="rId16"/>
            <a:stretch/>
          </p:blipFill>
          <p:spPr>
            <a:xfrm>
              <a:off x="7812000" y="4689360"/>
              <a:ext cx="11527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588000" y="4794120"/>
              <a:ext cx="1508400" cy="831960"/>
            </a:xfrm>
            <a:custGeom>
              <a:avLst/>
              <a:gdLst/>
              <a:ahLst/>
              <a:rect l="l" t="t" r="r" b="b"/>
              <a:pathLst>
                <a:path w="950" h="524">
                  <a:moveTo>
                    <a:pt x="0" y="524"/>
                  </a:moveTo>
                  <a:lnTo>
                    <a:pt x="95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48480" y="5829480"/>
              <a:ext cx="1758960" cy="152280"/>
            </a:xfrm>
            <a:custGeom>
              <a:avLst/>
              <a:gdLst/>
              <a:ahLst/>
              <a:rect l="l" t="t" r="r" b="b"/>
              <a:pathLst>
                <a:path w="1108" h="96">
                  <a:moveTo>
                    <a:pt x="0" y="96"/>
                  </a:moveTo>
                  <a:lnTo>
                    <a:pt x="110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248000" y="3645000"/>
            <a:ext cx="19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Metemos el dedo en el agua sin tocar las paredes ni el fon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259760" y="4041720"/>
            <a:ext cx="1726920" cy="5202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balanza indica una masa may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5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792000" y="69228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pérdida de peso en el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247" name="">
              <a:hlinkClick r:id="rId1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>
              <a:hlinkClick r:id="rId2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rId3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251" name="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>
              <a:hlinkClick r:id="rId5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>
              <a:hlinkClick r:id="rId6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255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257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260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262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265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269" name="">
              <a:hlinkClick r:id="rId7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>
              <a:hlinkClick r:id="rId8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>
              <a:hlinkClick r:id="rId9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" descr=""/>
          <p:cNvPicPr/>
          <p:nvPr/>
        </p:nvPicPr>
        <p:blipFill>
          <a:blip r:embed="rId10"/>
          <a:stretch/>
        </p:blipFill>
        <p:spPr>
          <a:xfrm>
            <a:off x="503280" y="1096920"/>
            <a:ext cx="2906640" cy="40338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1"/>
          <a:stretch/>
        </p:blipFill>
        <p:spPr>
          <a:xfrm>
            <a:off x="4346640" y="1096920"/>
            <a:ext cx="2046240" cy="40384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808360" y="50277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Cuer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2808360" y="4559400"/>
            <a:ext cx="287280" cy="503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71640" y="481176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B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9280" y="52070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Dinamóme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84360" y="4522320"/>
            <a:ext cx="287280" cy="6476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4360" y="111744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Agua destil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23274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rob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08000" y="2614680"/>
            <a:ext cx="250920" cy="179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32000" y="1606680"/>
            <a:ext cx="395280" cy="50472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2087640" y="4486320"/>
            <a:ext cx="108000" cy="28872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10040" y="2627280"/>
            <a:ext cx="0" cy="122400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206856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Agua destil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30680" y="407844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97560" y="3693960"/>
            <a:ext cx="7722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100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 cm</a:t>
            </a:r>
            <a:r>
              <a:rPr b="0" lang="en-US" sz="12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00840" y="2506680"/>
            <a:ext cx="0" cy="122400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58080" y="2468520"/>
            <a:ext cx="171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Introducimos la bola hasta la mitad de la probe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94320" y="401004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234120" y="3614760"/>
            <a:ext cx="7794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141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cm</a:t>
            </a:r>
            <a:r>
              <a:rPr b="0" lang="en-US" sz="12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30680" y="4127400"/>
            <a:ext cx="0" cy="43200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1640" y="5621400"/>
            <a:ext cx="2953080" cy="5202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Atamos la bola a la cuerda y la pesamos con el dinamómet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480000" y="4162320"/>
            <a:ext cx="2484720" cy="520200"/>
          </a:xfrm>
          <a:prstGeom prst="rect">
            <a:avLst/>
          </a:prstGeom>
          <a:solidFill>
            <a:srgbClr val="ccffcc">
              <a:alpha val="56000"/>
            </a:srgbClr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¿Cuánto pesa el agua que ha desplazado la bol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55040" y="3554280"/>
            <a:ext cx="140796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41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cm</a:t>
            </a:r>
            <a:r>
              <a:rPr b="0" lang="en-US" sz="12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de agua desplaz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093080" y="3754440"/>
            <a:ext cx="539640" cy="144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04000" y="4689360"/>
            <a:ext cx="1800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Densidad del agua      d</a:t>
            </a:r>
            <a:r>
              <a:rPr b="0" lang="es-ES" sz="1400" spc="-1" strike="noStrike" baseline="-25000">
                <a:solidFill>
                  <a:srgbClr val="006600"/>
                </a:solidFill>
                <a:latin typeface="Arial"/>
              </a:rPr>
              <a:t>H2O</a:t>
            </a: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= 1kg/dm</a:t>
            </a:r>
            <a:r>
              <a:rPr b="0" lang="es-ES" sz="14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814920" y="5326200"/>
            <a:ext cx="4321080" cy="518040"/>
            <a:chOff x="3814920" y="5326200"/>
            <a:chExt cx="4321080" cy="518040"/>
          </a:xfrm>
        </p:grpSpPr>
        <p:sp>
          <p:nvSpPr>
            <p:cNvPr id="299" name=""/>
            <p:cNvSpPr/>
            <p:nvPr/>
          </p:nvSpPr>
          <p:spPr>
            <a:xfrm>
              <a:off x="3814920" y="5326200"/>
              <a:ext cx="43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6600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 = </a:t>
              </a:r>
              <a:r>
                <a:rPr b="0" i="1" lang="en-US" sz="1400" spc="-1" strike="noStrike">
                  <a:solidFill>
                    <a:srgbClr val="006600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→ </a:t>
              </a:r>
              <a:r>
                <a:rPr b="0" i="1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m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=</a:t>
              </a:r>
              <a:r>
                <a:rPr b="0" i="1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d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·</a:t>
              </a:r>
              <a:r>
                <a:rPr b="0" i="1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V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 = 1 kg ·41 ·10</a:t>
              </a:r>
              <a:r>
                <a:rPr b="0" lang="en-US" sz="1400" spc="-1" strike="noStrike" baseline="30000">
                  <a:solidFill>
                    <a:srgbClr val="006600"/>
                  </a:solidFill>
                  <a:latin typeface="Arial"/>
                  <a:ea typeface="Arial"/>
                </a:rPr>
                <a:t>-3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 dm</a:t>
              </a:r>
              <a:r>
                <a:rPr b="0" lang="en-US" sz="1400" spc="-1" strike="noStrike" baseline="30000">
                  <a:solidFill>
                    <a:srgbClr val="006600"/>
                  </a:solidFill>
                  <a:latin typeface="Arial"/>
                  <a:ea typeface="Arial"/>
                </a:rPr>
                <a:t>3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 = 41 ·10</a:t>
              </a:r>
              <a:r>
                <a:rPr b="0" lang="en-US" sz="1400" spc="-1" strike="noStrike" baseline="30000">
                  <a:solidFill>
                    <a:srgbClr val="006600"/>
                  </a:solidFill>
                  <a:latin typeface="Arial"/>
                  <a:ea typeface="Arial"/>
                </a:rPr>
                <a:t>-3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 k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72040" y="5537160"/>
              <a:ext cx="4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66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34280" y="5527800"/>
              <a:ext cx="54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dm</a:t>
              </a:r>
              <a:r>
                <a:rPr b="0" lang="en-US" sz="1400" spc="-1" strike="noStrike" baseline="30000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05600" y="5578560"/>
              <a:ext cx="21564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61360" y="5591160"/>
              <a:ext cx="21564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691240" y="5389560"/>
            <a:ext cx="1081080" cy="395280"/>
            <a:chOff x="5691240" y="5389560"/>
            <a:chExt cx="1081080" cy="395280"/>
          </a:xfrm>
        </p:grpSpPr>
        <p:sp>
          <p:nvSpPr>
            <p:cNvPr id="305" name=""/>
            <p:cNvSpPr/>
            <p:nvPr/>
          </p:nvSpPr>
          <p:spPr>
            <a:xfrm flipH="1">
              <a:off x="5691240" y="5568840"/>
              <a:ext cx="28872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6556320" y="5389560"/>
              <a:ext cx="216000" cy="21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572000" y="5862600"/>
            <a:ext cx="32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 = </a:t>
            </a:r>
            <a:r>
              <a:rPr b="0" i="1" lang="es-ES" sz="14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·</a:t>
            </a:r>
            <a:r>
              <a:rPr b="0" i="1" lang="es-ES" sz="1400" spc="-1" strike="noStrike">
                <a:solidFill>
                  <a:srgbClr val="006600"/>
                </a:solidFill>
                <a:latin typeface="Arial"/>
              </a:rPr>
              <a:t>g</a:t>
            </a: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= 41·10</a:t>
            </a:r>
            <a:r>
              <a:rPr b="0" lang="es-ES" sz="1400" spc="-1" strike="noStrike" baseline="30000">
                <a:solidFill>
                  <a:srgbClr val="006600"/>
                </a:solidFill>
                <a:latin typeface="Arial"/>
              </a:rPr>
              <a:t>-3</a:t>
            </a: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 kg ·9,8 m/s</a:t>
            </a:r>
            <a:r>
              <a:rPr b="0" lang="es-ES" sz="14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 = 0,4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2"/>
          <a:stretch/>
        </p:blipFill>
        <p:spPr>
          <a:xfrm>
            <a:off x="330120" y="627120"/>
            <a:ext cx="447840" cy="6285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7086600" y="5745240"/>
            <a:ext cx="576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48360" y="1125360"/>
            <a:ext cx="2124000" cy="520200"/>
          </a:xfrm>
          <a:prstGeom prst="rect">
            <a:avLst/>
          </a:prstGeom>
          <a:solidFill>
            <a:srgbClr val="ccffcc">
              <a:alpha val="56000"/>
            </a:srgbClr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pérdida de peso de la bola en el agua 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559920" y="1773360"/>
            <a:ext cx="1715400" cy="3070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2 N – 1,6 N = 0,4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1655640" y="1376280"/>
          <a:ext cx="3033720" cy="36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1376280"/>
                    <a:ext cx="3033720" cy="36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4498920" y="1376280"/>
          <a:ext cx="3309840" cy="36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8920" y="1376280"/>
                    <a:ext cx="3309840" cy="36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 fuerza de emp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319" name="">
              <a:hlinkClick r:id="rId5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>
              <a:hlinkClick r:id="rId6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>
              <a:hlinkClick r:id="rId7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323" name="">
              <a:hlinkClick r:id="rId8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>
              <a:hlinkClick r:id="rId9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>
              <a:hlinkClick r:id="rId10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327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329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332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334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6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337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341" name="">
              <a:hlinkClick r:id="rId11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>
              <a:hlinkClick r:id="rId12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>
              <a:hlinkClick r:id="rId13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619280" y="200016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so real (en el ai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04000" y="2000160"/>
            <a:ext cx="18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so aparente</a:t>
            </a:r>
            <a:br>
              <a:rPr sz="1400"/>
            </a:b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 (dentro de un líqui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569760" y="2173320"/>
            <a:ext cx="418320" cy="2764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8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046120" y="2173320"/>
            <a:ext cx="418320" cy="2764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472920" y="2538360"/>
            <a:ext cx="61308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927680" y="2585880"/>
            <a:ext cx="68400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4920" y="4149720"/>
            <a:ext cx="0" cy="53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32360" y="3968640"/>
            <a:ext cx="0" cy="540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84400" y="4724280"/>
            <a:ext cx="637920" cy="307080"/>
          </a:xfrm>
          <a:prstGeom prst="rect">
            <a:avLst/>
          </a:prstGeom>
          <a:solidFill>
            <a:srgbClr val="ffffff">
              <a:alpha val="61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e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6920" y="4552920"/>
            <a:ext cx="637920" cy="307080"/>
          </a:xfrm>
          <a:prstGeom prst="rect">
            <a:avLst/>
          </a:prstGeom>
          <a:solidFill>
            <a:srgbClr val="ffffff">
              <a:alpha val="61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e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832360" y="2960280"/>
            <a:ext cx="0" cy="68436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41160" y="3105000"/>
            <a:ext cx="784080" cy="307080"/>
          </a:xfrm>
          <a:prstGeom prst="rect">
            <a:avLst/>
          </a:prstGeom>
          <a:solidFill>
            <a:srgbClr val="ffffff">
              <a:alpha val="61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mpu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84360" y="5467320"/>
            <a:ext cx="594036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 fuerza que empuja el cuerpo hacia arriba y que contrarresta el peso del cuerpo se denomina fuerza de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mpuj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4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2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2" presetSubtype="8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792000" y="714240"/>
            <a:ext cx="59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El principio de Arquím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grpSp>
        <p:nvGrpSpPr>
          <p:cNvPr id="362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363" name="">
              <a:hlinkClick r:id="rId2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>
              <a:hlinkClick r:id="rId3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>
              <a:hlinkClick r:id="rId4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367" name="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>
              <a:hlinkClick r:id="rId6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>
              <a:hlinkClick r:id="rId7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371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373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5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376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378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381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385" name="">
              <a:hlinkClick r:id="rId8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>
              <a:hlinkClick r:id="rId9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>
              <a:hlinkClick r:id="rId10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8" name="" descr=""/>
          <p:cNvPicPr/>
          <p:nvPr/>
        </p:nvPicPr>
        <p:blipFill>
          <a:blip r:embed="rId11"/>
          <a:stretch/>
        </p:blipFill>
        <p:spPr>
          <a:xfrm>
            <a:off x="2808360" y="3860640"/>
            <a:ext cx="2816280" cy="13860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12"/>
          <a:stretch/>
        </p:blipFill>
        <p:spPr>
          <a:xfrm>
            <a:off x="155520" y="3871800"/>
            <a:ext cx="2476440" cy="13860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13"/>
          <a:stretch/>
        </p:blipFill>
        <p:spPr>
          <a:xfrm>
            <a:off x="6081840" y="4292640"/>
            <a:ext cx="2641320" cy="1330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476360" y="1197000"/>
            <a:ext cx="594036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do cuerpo sumergido en un líquido experimenta un empuje vertical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 hacia arriba igual al peso del líquido desaloj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0" y="5421240"/>
            <a:ext cx="5543640" cy="555120"/>
            <a:chOff x="0" y="5421240"/>
            <a:chExt cx="5543640" cy="555120"/>
          </a:xfrm>
        </p:grpSpPr>
        <p:sp>
          <p:nvSpPr>
            <p:cNvPr id="393" name=""/>
            <p:cNvSpPr/>
            <p:nvPr/>
          </p:nvSpPr>
          <p:spPr>
            <a:xfrm>
              <a:off x="0" y="5421240"/>
              <a:ext cx="23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Bloque de oro de la misma masa que la coron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32000" y="5456160"/>
              <a:ext cx="241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Bloque de plata de la misma masa que la coron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47640" y="4398840"/>
            <a:ext cx="4572000" cy="1022400"/>
            <a:chOff x="647640" y="4398840"/>
            <a:chExt cx="4572000" cy="1022400"/>
          </a:xfrm>
        </p:grpSpPr>
        <p:sp>
          <p:nvSpPr>
            <p:cNvPr id="396" name=""/>
            <p:cNvSpPr/>
            <p:nvPr/>
          </p:nvSpPr>
          <p:spPr>
            <a:xfrm flipV="1">
              <a:off x="647640" y="4471920"/>
              <a:ext cx="973080" cy="9352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4589640" y="4398840"/>
              <a:ext cx="630000" cy="102240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0" y="1890720"/>
            <a:ext cx="74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l rey de Siracusa entregó una pieza de oro a un orfebre para que le fabricase una coro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19280" y="2224080"/>
            <a:ext cx="3024360" cy="520200"/>
          </a:xfrm>
          <a:prstGeom prst="rect">
            <a:avLst/>
          </a:prstGeom>
          <a:solidFill>
            <a:srgbClr val="ccffcc">
              <a:alpha val="48000"/>
            </a:srgbClr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¿Cómo saber si la corona estaba hecha con el oro entregad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7380360" y="1808280"/>
          <a:ext cx="1514520" cy="971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380360" y="1808280"/>
                    <a:ext cx="151452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1012680" y="3238560"/>
            <a:ext cx="410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densidad del oro y la plata son distintas y, por tanto, los bloques tienen distinto volum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7416360" y="2637000"/>
            <a:ext cx="576360" cy="19065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800000" y="3728880"/>
            <a:ext cx="2267280" cy="611280"/>
            <a:chOff x="1800000" y="3728880"/>
            <a:chExt cx="2267280" cy="611280"/>
          </a:xfrm>
        </p:grpSpPr>
        <p:sp>
          <p:nvSpPr>
            <p:cNvPr id="405" name=""/>
            <p:cNvSpPr/>
            <p:nvPr/>
          </p:nvSpPr>
          <p:spPr>
            <a:xfrm flipH="1">
              <a:off x="1800000" y="3728880"/>
              <a:ext cx="755640" cy="6112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384720" y="3728880"/>
              <a:ext cx="682560" cy="54000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6305400" y="5751360"/>
            <a:ext cx="2349720" cy="520200"/>
          </a:xfrm>
          <a:prstGeom prst="rect">
            <a:avLst/>
          </a:prstGeom>
          <a:solidFill>
            <a:srgbClr val="a9ffa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corona no estaba hecha con la pieza de o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96000" y="2997360"/>
            <a:ext cx="226872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Más agua desplazada que con el bloque de oro, pero menos que con el bloque de pl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79280" y="3728880"/>
            <a:ext cx="12240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Desplaza poca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967280" y="3692520"/>
            <a:ext cx="12970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Desplaza mucha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547640" y="2889360"/>
            <a:ext cx="3132360" cy="307080"/>
          </a:xfrm>
          <a:prstGeom prst="rect">
            <a:avLst/>
          </a:prstGeom>
          <a:solidFill>
            <a:srgbClr val="ccffcc">
              <a:alpha val="48000"/>
            </a:srgbClr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xperiencia de Arquíme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35" repeatCount="4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5033880" y="3710160"/>
            <a:ext cx="2167200" cy="1969920"/>
            <a:chOff x="5033880" y="3710160"/>
            <a:chExt cx="2167200" cy="1969920"/>
          </a:xfrm>
        </p:grpSpPr>
        <p:pic>
          <p:nvPicPr>
            <p:cNvPr id="413" name="" descr=""/>
            <p:cNvPicPr/>
            <p:nvPr/>
          </p:nvPicPr>
          <p:blipFill>
            <a:blip r:embed="rId1"/>
            <a:stretch/>
          </p:blipFill>
          <p:spPr>
            <a:xfrm>
              <a:off x="5033880" y="3710160"/>
              <a:ext cx="2079720" cy="19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6732720" y="4292640"/>
              <a:ext cx="468360" cy="11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40360" y="4149720"/>
              <a:ext cx="287280" cy="5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7056360" y="1528920"/>
            <a:ext cx="1656000" cy="1957320"/>
            <a:chOff x="7056360" y="1528920"/>
            <a:chExt cx="1656000" cy="1957320"/>
          </a:xfrm>
        </p:grpSpPr>
        <p:pic>
          <p:nvPicPr>
            <p:cNvPr id="417" name="" descr=""/>
            <p:cNvPicPr/>
            <p:nvPr/>
          </p:nvPicPr>
          <p:blipFill>
            <a:blip r:embed="rId2"/>
            <a:stretch/>
          </p:blipFill>
          <p:spPr>
            <a:xfrm>
              <a:off x="7056360" y="1528920"/>
              <a:ext cx="156996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8424720" y="2075040"/>
              <a:ext cx="287640" cy="11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792000" y="714240"/>
            <a:ext cx="518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Arial"/>
              </a:rPr>
              <a:t>Flotabibl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grpSp>
        <p:nvGrpSpPr>
          <p:cNvPr id="422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423" name="">
              <a:hlinkClick r:id="rId4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>
              <a:hlinkClick r:id="rId5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>
              <a:hlinkClick r:id="rId6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427" name="">
              <a:hlinkClick r:id="rId7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>
              <a:hlinkClick r:id="rId8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>
              <a:hlinkClick r:id="rId9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431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433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5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436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438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441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445" name="">
              <a:hlinkClick r:id="rId10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>
              <a:hlinkClick r:id="rId11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>
              <a:hlinkClick r:id="rId12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8" name="" descr=""/>
          <p:cNvPicPr/>
          <p:nvPr/>
        </p:nvPicPr>
        <p:blipFill>
          <a:blip r:embed="rId13"/>
          <a:stretch/>
        </p:blipFill>
        <p:spPr>
          <a:xfrm>
            <a:off x="-28440" y="1557360"/>
            <a:ext cx="3493800" cy="399564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5730120" y="3354480"/>
            <a:ext cx="747360" cy="3682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&lt; 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363800" y="1189080"/>
            <a:ext cx="747360" cy="3682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= 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8121600" y="1773360"/>
            <a:ext cx="1166400" cy="1718280"/>
            <a:chOff x="8121600" y="1773360"/>
            <a:chExt cx="1166400" cy="1718280"/>
          </a:xfrm>
        </p:grpSpPr>
        <p:sp>
          <p:nvSpPr>
            <p:cNvPr id="452" name=""/>
            <p:cNvSpPr/>
            <p:nvPr/>
          </p:nvSpPr>
          <p:spPr>
            <a:xfrm>
              <a:off x="8121600" y="3184560"/>
              <a:ext cx="108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Pes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06920" y="177336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mpuj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367320" y="4024440"/>
            <a:ext cx="1231920" cy="1732680"/>
            <a:chOff x="6367320" y="4024440"/>
            <a:chExt cx="1231920" cy="1732680"/>
          </a:xfrm>
        </p:grpSpPr>
        <p:sp>
          <p:nvSpPr>
            <p:cNvPr id="455" name=""/>
            <p:cNvSpPr/>
            <p:nvPr/>
          </p:nvSpPr>
          <p:spPr>
            <a:xfrm>
              <a:off x="6367320" y="545004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Pes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18160" y="402444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mpuj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3857760" y="3516480"/>
            <a:ext cx="11509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l cuerpo se hun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472000" y="5751360"/>
            <a:ext cx="11509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l cuerpo ascien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91480" y="3516480"/>
            <a:ext cx="21096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l cuerpo se mantiene en equilib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3557520" y="1528920"/>
            <a:ext cx="1800360" cy="1971360"/>
            <a:chOff x="3557520" y="1528920"/>
            <a:chExt cx="1800360" cy="1971360"/>
          </a:xfrm>
        </p:grpSpPr>
        <p:pic>
          <p:nvPicPr>
            <p:cNvPr id="461" name="" descr=""/>
            <p:cNvPicPr/>
            <p:nvPr/>
          </p:nvPicPr>
          <p:blipFill>
            <a:blip r:embed="rId14"/>
            <a:stretch/>
          </p:blipFill>
          <p:spPr>
            <a:xfrm>
              <a:off x="3557520" y="1528920"/>
              <a:ext cx="1800360" cy="19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5170320" y="2097000"/>
              <a:ext cx="179640" cy="115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64000" y="1916280"/>
              <a:ext cx="287280" cy="54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710240" y="1801800"/>
            <a:ext cx="1266840" cy="1718280"/>
            <a:chOff x="4710240" y="1801800"/>
            <a:chExt cx="1266840" cy="1718280"/>
          </a:xfrm>
        </p:grpSpPr>
        <p:sp>
          <p:nvSpPr>
            <p:cNvPr id="465" name=""/>
            <p:cNvSpPr/>
            <p:nvPr/>
          </p:nvSpPr>
          <p:spPr>
            <a:xfrm>
              <a:off x="4710240" y="321300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Pes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96000" y="180180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mpuj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5003640" y="4329000"/>
            <a:ext cx="324000" cy="540000"/>
          </a:xfrm>
          <a:prstGeom prst="upArrow">
            <a:avLst>
              <a:gd name="adj1" fmla="val 50000"/>
              <a:gd name="adj2" fmla="val 41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3557520" y="2546280"/>
            <a:ext cx="324000" cy="540000"/>
          </a:xfrm>
          <a:prstGeom prst="upArrow">
            <a:avLst>
              <a:gd name="adj1" fmla="val 50000"/>
              <a:gd name="adj2" fmla="val 41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8489880" y="2144880"/>
            <a:ext cx="0" cy="396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489880" y="2637000"/>
            <a:ext cx="0" cy="39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804000" y="5192640"/>
            <a:ext cx="0" cy="25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219640" y="2630520"/>
            <a:ext cx="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6804000" y="4344480"/>
            <a:ext cx="0" cy="576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219640" y="2170080"/>
            <a:ext cx="0" cy="287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7280" y="5445000"/>
            <a:ext cx="3384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Globos aerostáticos flotando en el ai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069800" y="1189080"/>
            <a:ext cx="747360" cy="3682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&gt; 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9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7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Fuerzas ejercidas por fl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grpSp>
        <p:nvGrpSpPr>
          <p:cNvPr id="480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481" name="">
              <a:hlinkClick r:id="rId2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>
              <a:hlinkClick r:id="rId3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>
              <a:hlinkClick r:id="rId4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485" name="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>
              <a:hlinkClick r:id="rId6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>
              <a:hlinkClick r:id="rId7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489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491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494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496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8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499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503" name="">
              <a:hlinkClick r:id="rId8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>
              <a:hlinkClick r:id="rId9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>
              <a:hlinkClick r:id="rId10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6" name="" descr=""/>
          <p:cNvPicPr/>
          <p:nvPr/>
        </p:nvPicPr>
        <p:blipFill>
          <a:blip r:embed="rId11"/>
          <a:stretch/>
        </p:blipFill>
        <p:spPr>
          <a:xfrm>
            <a:off x="287280" y="3573360"/>
            <a:ext cx="3311640" cy="226080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12"/>
          <a:stretch/>
        </p:blipFill>
        <p:spPr>
          <a:xfrm>
            <a:off x="324000" y="1268280"/>
            <a:ext cx="2735280" cy="187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8" name=""/>
          <p:cNvGraphicFramePr/>
          <p:nvPr/>
        </p:nvGraphicFramePr>
        <p:xfrm>
          <a:off x="3191040" y="1695600"/>
          <a:ext cx="2761920" cy="2260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91040" y="1695600"/>
                    <a:ext cx="2761920" cy="22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6173640" y="1376280"/>
          <a:ext cx="2917800" cy="2103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73640" y="1376280"/>
                    <a:ext cx="291780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6172200" y="3537000"/>
          <a:ext cx="2917800" cy="2243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72200" y="3537000"/>
                    <a:ext cx="291780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4" name=""/>
          <p:cNvGrpSpPr/>
          <p:nvPr/>
        </p:nvGrpSpPr>
        <p:grpSpPr>
          <a:xfrm>
            <a:off x="7093080" y="1952640"/>
            <a:ext cx="826920" cy="755280"/>
            <a:chOff x="7093080" y="1952640"/>
            <a:chExt cx="826920" cy="755280"/>
          </a:xfrm>
        </p:grpSpPr>
        <p:sp>
          <p:nvSpPr>
            <p:cNvPr id="515" name=""/>
            <p:cNvSpPr/>
            <p:nvPr/>
          </p:nvSpPr>
          <p:spPr>
            <a:xfrm flipH="1">
              <a:off x="7704000" y="1952640"/>
              <a:ext cx="216000" cy="289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36000" y="2060640"/>
              <a:ext cx="180720" cy="144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7093080" y="2457000"/>
              <a:ext cx="323640" cy="179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 flipV="1">
              <a:off x="7632360" y="2457000"/>
              <a:ext cx="252360" cy="250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912000" y="4545000"/>
            <a:ext cx="1189080" cy="971280"/>
            <a:chOff x="6912000" y="4545000"/>
            <a:chExt cx="1189080" cy="971280"/>
          </a:xfrm>
        </p:grpSpPr>
        <p:sp>
          <p:nvSpPr>
            <p:cNvPr id="520" name=""/>
            <p:cNvSpPr/>
            <p:nvPr/>
          </p:nvSpPr>
          <p:spPr>
            <a:xfrm>
              <a:off x="7056360" y="4653000"/>
              <a:ext cx="360360" cy="323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632720" y="4545000"/>
              <a:ext cx="287280" cy="431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>
              <a:off x="7667640" y="5157360"/>
              <a:ext cx="433440" cy="358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6912000" y="5157720"/>
              <a:ext cx="504720" cy="3240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216000" y="1341360"/>
            <a:ext cx="358560" cy="358920"/>
            <a:chOff x="216000" y="1341360"/>
            <a:chExt cx="358560" cy="358920"/>
          </a:xfrm>
        </p:grpSpPr>
        <p:sp>
          <p:nvSpPr>
            <p:cNvPr id="525" name=""/>
            <p:cNvSpPr/>
            <p:nvPr/>
          </p:nvSpPr>
          <p:spPr>
            <a:xfrm>
              <a:off x="216000" y="1341360"/>
              <a:ext cx="358560" cy="358920"/>
            </a:xfrm>
            <a:prstGeom prst="ellipse">
              <a:avLst/>
            </a:prstGeom>
            <a:solidFill>
              <a:srgbClr val="a9f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4080" y="1370160"/>
              <a:ext cx="28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3276720" y="1376280"/>
            <a:ext cx="358560" cy="358920"/>
            <a:chOff x="3276720" y="1376280"/>
            <a:chExt cx="358560" cy="358920"/>
          </a:xfrm>
        </p:grpSpPr>
        <p:sp>
          <p:nvSpPr>
            <p:cNvPr id="528" name=""/>
            <p:cNvSpPr/>
            <p:nvPr/>
          </p:nvSpPr>
          <p:spPr>
            <a:xfrm>
              <a:off x="3276720" y="1376280"/>
              <a:ext cx="358560" cy="358920"/>
            </a:xfrm>
            <a:prstGeom prst="ellipse">
              <a:avLst/>
            </a:prstGeom>
            <a:solidFill>
              <a:srgbClr val="a9f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04800" y="1405080"/>
              <a:ext cx="28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395280" y="3429000"/>
            <a:ext cx="358920" cy="358920"/>
            <a:chOff x="395280" y="3429000"/>
            <a:chExt cx="358920" cy="358920"/>
          </a:xfrm>
        </p:grpSpPr>
        <p:sp>
          <p:nvSpPr>
            <p:cNvPr id="531" name=""/>
            <p:cNvSpPr/>
            <p:nvPr/>
          </p:nvSpPr>
          <p:spPr>
            <a:xfrm>
              <a:off x="395280" y="3429000"/>
              <a:ext cx="358920" cy="358920"/>
            </a:xfrm>
            <a:prstGeom prst="ellipse">
              <a:avLst/>
            </a:prstGeom>
            <a:solidFill>
              <a:srgbClr val="a9f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3720" y="345780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150920" y="1305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Tubo de plá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1295280" y="1557360"/>
            <a:ext cx="432000" cy="503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547640" y="177336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Tapa de plá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1584000" y="2060640"/>
            <a:ext cx="358920" cy="61272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635280" y="1262160"/>
            <a:ext cx="16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Se introduce en un recipiente de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4248000" y="2641680"/>
            <a:ext cx="687600" cy="1320840"/>
            <a:chOff x="4248000" y="2641680"/>
            <a:chExt cx="687600" cy="1320840"/>
          </a:xfrm>
        </p:grpSpPr>
        <p:sp>
          <p:nvSpPr>
            <p:cNvPr id="539" name=""/>
            <p:cNvSpPr/>
            <p:nvPr/>
          </p:nvSpPr>
          <p:spPr>
            <a:xfrm>
              <a:off x="4248000" y="3003480"/>
              <a:ext cx="158760" cy="258840"/>
            </a:xfrm>
            <a:custGeom>
              <a:avLst/>
              <a:gdLst/>
              <a:ahLst/>
              <a:rect l="l" t="t" r="r" b="b"/>
              <a:pathLst>
                <a:path w="100" h="163">
                  <a:moveTo>
                    <a:pt x="100" y="16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4719600" y="2641680"/>
              <a:ext cx="216000" cy="5047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4597560" y="3351240"/>
              <a:ext cx="0" cy="611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2124000" y="4076640"/>
            <a:ext cx="576360" cy="289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008000" y="4113360"/>
            <a:ext cx="576360" cy="2887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97160" y="4862520"/>
            <a:ext cx="295272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tapa se separa cuando el nivel de agua del interior del tubo coincide con el del recip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93640" y="5726160"/>
            <a:ext cx="522144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 cuerpo sumergido en un fluido está sometido a una fuerza que actúa en cualquier dirección perpendicular al cuer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527280" y="3970440"/>
            <a:ext cx="216072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tapa se queda pegada en cualquier dire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149880" y="5726160"/>
            <a:ext cx="288000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 fuerza aumenta cuanto mayor es la profund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5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000"/>
                            </p:stCondLst>
                            <p:childTnLst>
                              <p:par>
                                <p:cTn id="5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3" presetSubtype="16" repeatCount="3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8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13" presetSubtype="16" repeatCount="3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59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grpSp>
        <p:nvGrpSpPr>
          <p:cNvPr id="551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552" name="">
              <a:hlinkClick r:id="rId2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>
              <a:hlinkClick r:id="rId3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>
              <a:hlinkClick r:id="rId4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556" name="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>
              <a:hlinkClick r:id="rId6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>
              <a:hlinkClick r:id="rId7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560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562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4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565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567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9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570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574" name="">
              <a:hlinkClick r:id="rId8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>
              <a:hlinkClick r:id="rId9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>
              <a:hlinkClick r:id="rId10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7" name="" descr=""/>
          <p:cNvPicPr/>
          <p:nvPr/>
        </p:nvPicPr>
        <p:blipFill>
          <a:blip r:embed="rId11"/>
          <a:stretch/>
        </p:blipFill>
        <p:spPr>
          <a:xfrm>
            <a:off x="5532480" y="3933720"/>
            <a:ext cx="3398760" cy="201456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12"/>
          <a:stretch/>
        </p:blipFill>
        <p:spPr>
          <a:xfrm>
            <a:off x="5172120" y="1571760"/>
            <a:ext cx="2352600" cy="17715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13"/>
          <a:stretch/>
        </p:blipFill>
        <p:spPr>
          <a:xfrm>
            <a:off x="7416720" y="1571760"/>
            <a:ext cx="1365480" cy="192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0" name=""/>
          <p:cNvGraphicFramePr/>
          <p:nvPr/>
        </p:nvGraphicFramePr>
        <p:xfrm>
          <a:off x="2500200" y="1536840"/>
          <a:ext cx="2629080" cy="1892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500200" y="1536840"/>
                    <a:ext cx="26290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2" name=""/>
          <p:cNvGraphicFramePr/>
          <p:nvPr/>
        </p:nvGraphicFramePr>
        <p:xfrm>
          <a:off x="73080" y="1644480"/>
          <a:ext cx="2619360" cy="18925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3080" y="1644480"/>
                    <a:ext cx="261936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"/>
          <p:cNvSpPr/>
          <p:nvPr/>
        </p:nvSpPr>
        <p:spPr>
          <a:xfrm>
            <a:off x="900000" y="1233360"/>
            <a:ext cx="78123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n cada caso se ejerce la misma fuerza sobre el mismo objeto en dos situaciones difere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798640" y="3429000"/>
            <a:ext cx="3490920" cy="307080"/>
          </a:xfrm>
          <a:prstGeom prst="rect">
            <a:avLst/>
          </a:prstGeom>
          <a:solidFill>
            <a:srgbClr val="ccffcc">
              <a:alpha val="48000"/>
            </a:srgbClr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¿Por qué el resultado es tan distint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28520" y="4113360"/>
            <a:ext cx="522144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anto menor es la superficie sobre la que actúa una fuerza, mayor es su efecto. Este efecto se denomina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ió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556000" y="5746680"/>
            <a:ext cx="46800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presión que soporta cada punto del cuerpo del faquir es menor cuanto mayor sea el número de clav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63640" y="4797360"/>
            <a:ext cx="32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p = F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934920" y="5229360"/>
            <a:ext cx="32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1 Pa = 1 N / 1 m</a:t>
            </a:r>
            <a:r>
              <a:rPr b="0" lang="es-ES" sz="16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5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3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11:11:14Z</dcterms:created>
  <dc:creator>Antonio Brandi</dc:creator>
  <dc:description/>
  <dc:language>en-US</dc:language>
  <cp:lastModifiedBy>perfil</cp:lastModifiedBy>
  <dcterms:modified xsi:type="dcterms:W3CDTF">2008-04-30T11:10:42Z</dcterms:modified>
  <cp:revision>409</cp:revision>
  <dc:subject/>
  <dc:title>Diapositiva 1</dc:title>
</cp:coreProperties>
</file>